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26680"/>
            <a:ext cx="7770960" cy="13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26680"/>
            <a:ext cx="7770960" cy="13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26680"/>
            <a:ext cx="7770960" cy="13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26680"/>
            <a:ext cx="7770960" cy="13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26680"/>
            <a:ext cx="7770960" cy="13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26680"/>
            <a:ext cx="7770960" cy="13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26680"/>
            <a:ext cx="7770960" cy="13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526680"/>
            <a:ext cx="7770960" cy="60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26680"/>
            <a:ext cx="7770960" cy="13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26680"/>
            <a:ext cx="7770960" cy="13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26680"/>
            <a:ext cx="7770960" cy="13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26680"/>
            <a:ext cx="7770960" cy="13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 MT Extra Bold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5680" y="6319800"/>
            <a:ext cx="129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.</a:t>
            </a:r>
            <a:fld id="{B8529B66-B954-4DDE-A83E-37308FE1B909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102360" y="6388200"/>
            <a:ext cx="304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2 by Prentice H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2619360"/>
            <a:chOff x="0" y="0"/>
            <a:chExt cx="9144000" cy="2619360"/>
          </a:xfrm>
        </p:grpSpPr>
        <p:graphicFrame>
          <p:nvGraphicFramePr>
            <p:cNvPr id="41" name=""/>
            <p:cNvGraphicFramePr/>
            <p:nvPr/>
          </p:nvGraphicFramePr>
          <p:xfrm>
            <a:off x="0" y="0"/>
            <a:ext cx="9144000" cy="261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4000" cy="261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" name=""/>
            <p:cNvSpPr/>
            <p:nvPr/>
          </p:nvSpPr>
          <p:spPr>
            <a:xfrm>
              <a:off x="476280" y="723960"/>
              <a:ext cx="754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   h   a   p   t   e   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165240" y="111744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9600" spc="-1" strike="noStrike">
                <a:solidFill>
                  <a:srgbClr val="000000"/>
                </a:solidFill>
                <a:latin typeface="AvantGarde Bk BT"/>
              </a:rPr>
              <a:t>1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84520" y="2876400"/>
            <a:ext cx="5790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ETHICAL &amp; SOCIAL IMPACT OF INFORMATIO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 MT Extra Bold"/>
              </a:rPr>
              <a:t>ETHICS IN AN INFORMATION SOCIETY</a:t>
            </a:r>
            <a:endParaRPr b="1" lang="en-US" sz="36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THICAL ANALYSIS: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IDENTIFY, DESCRIBE FACT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DEFINE CONFLICT, IDENTIFY VALUE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IDENTIFY STAKEHOLDER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IDENTIFY OPTION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IDENTIFY POTENTIAL CONSEQUENCE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699160" y="5219640"/>
          <a:ext cx="275580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9160" y="5219640"/>
                    <a:ext cx="27558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dur="indefinite" fill="hold">
                      <p:stCondLst>
                        <p:cond delay="indefinite"/>
                      </p:stCondLst>
                      <p:childTnLst>
                        <p:par>
                          <p:cTn id="2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dur="indefinite" fill="hold">
                      <p:stCondLst>
                        <p:cond delay="indefinite"/>
                      </p:stCondLst>
                      <p:childTnLst>
                        <p:par>
                          <p:cTn id="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3" dur="indefinite" fill="hold">
                      <p:stCondLst>
                        <p:cond delay="indefinite"/>
                      </p:stCondLst>
                      <p:childTnLst>
                        <p:par>
                          <p:cTn id="2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dur="indefinite" fill="hold">
                      <p:stCondLst>
                        <p:cond delay="indefinite"/>
                      </p:stCondLst>
                      <p:childTnLst>
                        <p:par>
                          <p:cTn id="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dur="indefinite" fill="hold">
                      <p:stCondLst>
                        <p:cond delay="indefinite"/>
                      </p:stCondLst>
                      <p:childTnLst>
                        <p:par>
                          <p:cTn id="3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dur="indefinite" fill="hold">
                      <p:stCondLst>
                        <p:cond delay="indefinite"/>
                      </p:stCondLst>
                      <p:childTnLst>
                        <p:par>
                          <p:cTn id="3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5699160" y="5219640"/>
          <a:ext cx="275580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9160" y="5219640"/>
                    <a:ext cx="27558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THICAL PRINCIPLES: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REAT OTHERS AS YOU WANT TO BE TREATED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F ACTION NOT RIGHT FOR EVERYONE, NOT RIGHT FOR ANYONE (KANT)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F ACTION NOT REPEATABLE, NOT RIGHT AT ANY TIME (DESCARTES)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UT VALUE ON OUTCOMES, UNDERSTAND CONSEQUENCES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NCUR LEAST HARM OR COST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FREE LUNCH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 MT Extra Bold"/>
              </a:rPr>
              <a:t>ETHICS IN AN INFORMATION SOCIETY</a:t>
            </a:r>
            <a:endParaRPr b="1" lang="en-US" sz="36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p:transition>
    <p:strips dir="l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dur="indefinite" fill="hold">
                      <p:stCondLst>
                        <p:cond delay="indefinite"/>
                      </p:stCondLst>
                      <p:childTnLst>
                        <p:par>
                          <p:cTn id="3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dur="indefinite" fill="hold">
                      <p:stCondLst>
                        <p:cond delay="indefinite"/>
                      </p:stCondLst>
                      <p:childTnLst>
                        <p:par>
                          <p:cTn id="3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8" dur="indefinite" fill="hold">
                      <p:stCondLst>
                        <p:cond delay="indefinite"/>
                      </p:stCondLst>
                      <p:childTnLst>
                        <p:par>
                          <p:cTn id="3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dur="indefinite" fill="hold">
                      <p:stCondLst>
                        <p:cond delay="indefinite"/>
                      </p:stCondLst>
                      <p:childTnLst>
                        <p:par>
                          <p:cTn id="3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dur="indefinite" fill="hold">
                      <p:stCondLst>
                        <p:cond delay="indefinite"/>
                      </p:stCondLst>
                      <p:childTnLst>
                        <p:par>
                          <p:cTn id="3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dur="indefinite" fill="hold">
                      <p:stCondLst>
                        <p:cond delay="indefinite"/>
                      </p:stCondLst>
                      <p:childTnLst>
                        <p:par>
                          <p:cTn id="3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dur="indefinite" fill="hold">
                      <p:stCondLst>
                        <p:cond delay="indefinite"/>
                      </p:stCondLst>
                      <p:childTnLst>
                        <p:par>
                          <p:cTn id="3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dur="indefinite" fill="hold">
                      <p:stCondLst>
                        <p:cond delay="indefinite"/>
                      </p:stCondLst>
                      <p:childTnLst>
                        <p:par>
                          <p:cTn id="3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 MT Extra Bold"/>
              </a:rPr>
              <a:t>INFORMATION RIGHTS</a:t>
            </a: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VACY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Right to be left alone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FAIR INFORMATION PRACTICES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FIP)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281160" indent="-2800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NO SECRET PERSONAL RECORD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281160" indent="-2800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INDIVIDUALS CAN ACCESS, AMEND  INFORMATION ABOUT THEM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281160" indent="-2800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USE INFO ONLY WITH PRIOR CONSENT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281160" indent="-2800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MANAGERS ACCOUNTABLE FOR DAMAGE DONE BY SYSTEM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281160" indent="-2800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GOVERNMENTS CAN INTERVENE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28116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842160" y="4667400"/>
            <a:ext cx="2301840" cy="1612800"/>
            <a:chOff x="6842160" y="4667400"/>
            <a:chExt cx="2301840" cy="1612800"/>
          </a:xfrm>
        </p:grpSpPr>
        <p:sp>
          <p:nvSpPr>
            <p:cNvPr id="133" name=""/>
            <p:cNvSpPr/>
            <p:nvPr/>
          </p:nvSpPr>
          <p:spPr>
            <a:xfrm>
              <a:off x="7051680" y="5100480"/>
              <a:ext cx="1887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00840" y="4667400"/>
              <a:ext cx="2187720" cy="476280"/>
            </a:xfrm>
            <a:custGeom>
              <a:avLst/>
              <a:gdLst/>
              <a:ahLst/>
              <a:rect l="l" t="t" r="r" b="b"/>
              <a:pathLst>
                <a:path w="4579" h="996">
                  <a:moveTo>
                    <a:pt x="0" y="996"/>
                  </a:moveTo>
                  <a:lnTo>
                    <a:pt x="4579" y="996"/>
                  </a:lnTo>
                  <a:lnTo>
                    <a:pt x="2294" y="0"/>
                  </a:lnTo>
                  <a:lnTo>
                    <a:pt x="0" y="996"/>
                  </a:lnTo>
                  <a:close/>
                </a:path>
              </a:pathLst>
            </a:custGeom>
            <a:solidFill>
              <a:srgbClr val="c0c0c0"/>
            </a:solidFill>
            <a:ln w="11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62840" y="4700520"/>
              <a:ext cx="1871640" cy="401760"/>
            </a:xfrm>
            <a:custGeom>
              <a:avLst/>
              <a:gdLst/>
              <a:ahLst/>
              <a:rect l="l" t="t" r="r" b="b"/>
              <a:pathLst>
                <a:path w="3919" h="842">
                  <a:moveTo>
                    <a:pt x="0" y="842"/>
                  </a:moveTo>
                  <a:lnTo>
                    <a:pt x="3919" y="842"/>
                  </a:lnTo>
                  <a:lnTo>
                    <a:pt x="1965" y="0"/>
                  </a:lnTo>
                  <a:lnTo>
                    <a:pt x="0" y="842"/>
                  </a:lnTo>
                  <a:close/>
                </a:path>
              </a:pathLst>
            </a:custGeom>
            <a:solidFill>
              <a:srgbClr val="cecece"/>
            </a:solidFill>
            <a:ln w="11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89680" y="5181480"/>
              <a:ext cx="2220840" cy="22320"/>
            </a:xfrm>
            <a:prstGeom prst="rect">
              <a:avLst/>
            </a:prstGeom>
            <a:solidFill>
              <a:srgbClr val="c0c0c0"/>
            </a:solidFill>
            <a:ln w="11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23160" y="5234040"/>
              <a:ext cx="2139840" cy="28440"/>
            </a:xfrm>
            <a:prstGeom prst="rect">
              <a:avLst/>
            </a:prstGeom>
            <a:solidFill>
              <a:srgbClr val="c0c0c0"/>
            </a:solidFill>
            <a:ln w="11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842160" y="6107040"/>
              <a:ext cx="2301840" cy="173160"/>
              <a:chOff x="6842160" y="6107040"/>
              <a:chExt cx="2301840" cy="173160"/>
            </a:xfrm>
          </p:grpSpPr>
          <p:sp>
            <p:nvSpPr>
              <p:cNvPr id="139" name=""/>
              <p:cNvSpPr/>
              <p:nvPr/>
            </p:nvSpPr>
            <p:spPr>
              <a:xfrm>
                <a:off x="6981840" y="6107040"/>
                <a:ext cx="2022480" cy="1764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842160" y="6267600"/>
                <a:ext cx="2301840" cy="1260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923160" y="6145200"/>
                <a:ext cx="2139840" cy="2700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889680" y="6192720"/>
                <a:ext cx="2206800" cy="3348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307280" y="5281560"/>
              <a:ext cx="243000" cy="804960"/>
              <a:chOff x="7307280" y="5281560"/>
              <a:chExt cx="243000" cy="804960"/>
            </a:xfrm>
          </p:grpSpPr>
          <p:sp>
            <p:nvSpPr>
              <p:cNvPr id="144" name=""/>
              <p:cNvSpPr/>
              <p:nvPr/>
            </p:nvSpPr>
            <p:spPr>
              <a:xfrm>
                <a:off x="7307280" y="6066000"/>
                <a:ext cx="2430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07280" y="5281560"/>
                <a:ext cx="2430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7348680" y="5316480"/>
                <a:ext cx="172800" cy="735120"/>
                <a:chOff x="7348680" y="5316480"/>
                <a:chExt cx="172800" cy="7351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7348680" y="5316480"/>
                  <a:ext cx="17280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40412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44228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48044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6776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" name=""/>
            <p:cNvGrpSpPr/>
            <p:nvPr/>
          </p:nvGrpSpPr>
          <p:grpSpPr>
            <a:xfrm>
              <a:off x="7589880" y="5281560"/>
              <a:ext cx="243000" cy="804960"/>
              <a:chOff x="7589880" y="5281560"/>
              <a:chExt cx="243000" cy="804960"/>
            </a:xfrm>
          </p:grpSpPr>
          <p:sp>
            <p:nvSpPr>
              <p:cNvPr id="153" name=""/>
              <p:cNvSpPr/>
              <p:nvPr/>
            </p:nvSpPr>
            <p:spPr>
              <a:xfrm>
                <a:off x="7589880" y="6066000"/>
                <a:ext cx="2430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589880" y="5281560"/>
                <a:ext cx="2430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7629480" y="5316480"/>
                <a:ext cx="173160" cy="735120"/>
                <a:chOff x="7629480" y="5316480"/>
                <a:chExt cx="173160" cy="7351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7629480" y="5316480"/>
                  <a:ext cx="17316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68672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72308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76124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64856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1" name=""/>
            <p:cNvGrpSpPr/>
            <p:nvPr/>
          </p:nvGrpSpPr>
          <p:grpSpPr>
            <a:xfrm>
              <a:off x="7864560" y="5281560"/>
              <a:ext cx="241200" cy="804960"/>
              <a:chOff x="7864560" y="5281560"/>
              <a:chExt cx="241200" cy="804960"/>
            </a:xfrm>
          </p:grpSpPr>
          <p:sp>
            <p:nvSpPr>
              <p:cNvPr id="162" name=""/>
              <p:cNvSpPr/>
              <p:nvPr/>
            </p:nvSpPr>
            <p:spPr>
              <a:xfrm>
                <a:off x="7864560" y="6066000"/>
                <a:ext cx="2412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864560" y="5281560"/>
                <a:ext cx="2412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7902720" y="5316480"/>
                <a:ext cx="172800" cy="735120"/>
                <a:chOff x="7902720" y="5316480"/>
                <a:chExt cx="172800" cy="735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7902720" y="5316480"/>
                  <a:ext cx="17280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95960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99776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03448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92180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0" name=""/>
            <p:cNvGrpSpPr/>
            <p:nvPr/>
          </p:nvGrpSpPr>
          <p:grpSpPr>
            <a:xfrm>
              <a:off x="8139240" y="5281560"/>
              <a:ext cx="242640" cy="804960"/>
              <a:chOff x="8139240" y="5281560"/>
              <a:chExt cx="242640" cy="804960"/>
            </a:xfrm>
          </p:grpSpPr>
          <p:sp>
            <p:nvSpPr>
              <p:cNvPr id="171" name=""/>
              <p:cNvSpPr/>
              <p:nvPr/>
            </p:nvSpPr>
            <p:spPr>
              <a:xfrm>
                <a:off x="8139240" y="6066000"/>
                <a:ext cx="24264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139240" y="5281560"/>
                <a:ext cx="24264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8178840" y="5316480"/>
                <a:ext cx="173160" cy="735120"/>
                <a:chOff x="8178840" y="5316480"/>
                <a:chExt cx="173160" cy="7351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8178840" y="5316480"/>
                  <a:ext cx="17316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23608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827388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31060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19792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" name=""/>
            <p:cNvGrpSpPr/>
            <p:nvPr/>
          </p:nvGrpSpPr>
          <p:grpSpPr>
            <a:xfrm>
              <a:off x="8696160" y="5281560"/>
              <a:ext cx="243000" cy="804960"/>
              <a:chOff x="8696160" y="5281560"/>
              <a:chExt cx="243000" cy="804960"/>
            </a:xfrm>
          </p:grpSpPr>
          <p:sp>
            <p:nvSpPr>
              <p:cNvPr id="180" name=""/>
              <p:cNvSpPr/>
              <p:nvPr/>
            </p:nvSpPr>
            <p:spPr>
              <a:xfrm>
                <a:off x="8696160" y="6066000"/>
                <a:ext cx="2430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696160" y="5281560"/>
                <a:ext cx="2430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8737560" y="5316480"/>
                <a:ext cx="173160" cy="735120"/>
                <a:chOff x="8737560" y="5316480"/>
                <a:chExt cx="173160" cy="7351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8737560" y="5316480"/>
                  <a:ext cx="17316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879480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83116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886932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875520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8" name=""/>
            <p:cNvGrpSpPr/>
            <p:nvPr/>
          </p:nvGrpSpPr>
          <p:grpSpPr>
            <a:xfrm>
              <a:off x="7029360" y="5281560"/>
              <a:ext cx="243000" cy="804960"/>
              <a:chOff x="7029360" y="5281560"/>
              <a:chExt cx="243000" cy="804960"/>
            </a:xfrm>
          </p:grpSpPr>
          <p:sp>
            <p:nvSpPr>
              <p:cNvPr id="189" name=""/>
              <p:cNvSpPr/>
              <p:nvPr/>
            </p:nvSpPr>
            <p:spPr>
              <a:xfrm>
                <a:off x="7029360" y="6066000"/>
                <a:ext cx="2430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29360" y="5281560"/>
                <a:ext cx="2430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7070760" y="5316480"/>
                <a:ext cx="171360" cy="735120"/>
                <a:chOff x="7070760" y="5316480"/>
                <a:chExt cx="171360" cy="7351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7070760" y="5316480"/>
                  <a:ext cx="17136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12476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16292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20108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08804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7" name=""/>
            <p:cNvGrpSpPr/>
            <p:nvPr/>
          </p:nvGrpSpPr>
          <p:grpSpPr>
            <a:xfrm>
              <a:off x="8421840" y="5281560"/>
              <a:ext cx="242640" cy="804960"/>
              <a:chOff x="8421840" y="5281560"/>
              <a:chExt cx="242640" cy="804960"/>
            </a:xfrm>
          </p:grpSpPr>
          <p:sp>
            <p:nvSpPr>
              <p:cNvPr id="198" name=""/>
              <p:cNvSpPr/>
              <p:nvPr/>
            </p:nvSpPr>
            <p:spPr>
              <a:xfrm>
                <a:off x="8421840" y="6066000"/>
                <a:ext cx="24264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421840" y="5281560"/>
                <a:ext cx="24264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8461440" y="5316480"/>
                <a:ext cx="172800" cy="735120"/>
                <a:chOff x="8461440" y="5316480"/>
                <a:chExt cx="172800" cy="73512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8461440" y="5316480"/>
                  <a:ext cx="17280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51688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855504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59320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48052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strips dir="ld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dur="indefinite" fill="hold">
                      <p:stCondLst>
                        <p:cond delay="0"/>
                      </p:stCondLst>
                      <p:childTnLst>
                        <p:par>
                          <p:cTn id="3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dur="indefinite" fill="hold">
                      <p:stCondLst>
                        <p:cond delay="indefinite"/>
                      </p:stCondLst>
                      <p:childTnLst>
                        <p:par>
                          <p:cTn id="3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dur="indefinite" fill="hold">
                      <p:stCondLst>
                        <p:cond delay="indefinite"/>
                      </p:stCondLst>
                      <p:childTnLst>
                        <p:par>
                          <p:cTn id="3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dur="indefinite" fill="hold">
                      <p:stCondLst>
                        <p:cond delay="indefinite"/>
                      </p:stCondLst>
                      <p:childTnLst>
                        <p:par>
                          <p:cTn id="3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dur="indefinite" fill="hold">
                      <p:stCondLst>
                        <p:cond delay="indefinite"/>
                      </p:stCondLst>
                      <p:childTnLst>
                        <p:par>
                          <p:cTn id="4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dur="indefinite" fill="hold">
                      <p:stCondLst>
                        <p:cond delay="indefinite"/>
                      </p:stCondLst>
                      <p:childTnLst>
                        <p:par>
                          <p:cTn id="4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dur="indefinite" fill="hold">
                      <p:stCondLst>
                        <p:cond delay="indefinite"/>
                      </p:stCondLst>
                      <p:childTnLst>
                        <p:par>
                          <p:cTn id="4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dur="indefinite" fill="hold">
                      <p:stCondLst>
                        <p:cond delay="indefinite"/>
                      </p:stCondLst>
                      <p:childTnLst>
                        <p:par>
                          <p:cTn id="4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dur="indefinite" fill="hold">
                      <p:stCondLst>
                        <p:cond delay="indefinite"/>
                      </p:stCondLst>
                      <p:childTnLst>
                        <p:par>
                          <p:cTn id="4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6842160" y="4667400"/>
            <a:ext cx="2301840" cy="1612800"/>
            <a:chOff x="6842160" y="4667400"/>
            <a:chExt cx="2301840" cy="1612800"/>
          </a:xfrm>
        </p:grpSpPr>
        <p:sp>
          <p:nvSpPr>
            <p:cNvPr id="207" name=""/>
            <p:cNvSpPr/>
            <p:nvPr/>
          </p:nvSpPr>
          <p:spPr>
            <a:xfrm>
              <a:off x="7051680" y="5100480"/>
              <a:ext cx="1887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00840" y="4667400"/>
              <a:ext cx="2187720" cy="476280"/>
            </a:xfrm>
            <a:custGeom>
              <a:avLst/>
              <a:gdLst/>
              <a:ahLst/>
              <a:rect l="l" t="t" r="r" b="b"/>
              <a:pathLst>
                <a:path w="4579" h="996">
                  <a:moveTo>
                    <a:pt x="0" y="996"/>
                  </a:moveTo>
                  <a:lnTo>
                    <a:pt x="4579" y="996"/>
                  </a:lnTo>
                  <a:lnTo>
                    <a:pt x="2294" y="0"/>
                  </a:lnTo>
                  <a:lnTo>
                    <a:pt x="0" y="996"/>
                  </a:lnTo>
                  <a:close/>
                </a:path>
              </a:pathLst>
            </a:custGeom>
            <a:solidFill>
              <a:srgbClr val="c0c0c0"/>
            </a:solidFill>
            <a:ln w="11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62840" y="4700520"/>
              <a:ext cx="1871640" cy="401760"/>
            </a:xfrm>
            <a:custGeom>
              <a:avLst/>
              <a:gdLst/>
              <a:ahLst/>
              <a:rect l="l" t="t" r="r" b="b"/>
              <a:pathLst>
                <a:path w="3919" h="842">
                  <a:moveTo>
                    <a:pt x="0" y="842"/>
                  </a:moveTo>
                  <a:lnTo>
                    <a:pt x="3919" y="842"/>
                  </a:lnTo>
                  <a:lnTo>
                    <a:pt x="1965" y="0"/>
                  </a:lnTo>
                  <a:lnTo>
                    <a:pt x="0" y="842"/>
                  </a:lnTo>
                  <a:close/>
                </a:path>
              </a:pathLst>
            </a:custGeom>
            <a:solidFill>
              <a:srgbClr val="cecece"/>
            </a:solidFill>
            <a:ln w="11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89680" y="5181480"/>
              <a:ext cx="2220840" cy="22320"/>
            </a:xfrm>
            <a:prstGeom prst="rect">
              <a:avLst/>
            </a:prstGeom>
            <a:solidFill>
              <a:srgbClr val="c0c0c0"/>
            </a:solidFill>
            <a:ln w="11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23160" y="5234040"/>
              <a:ext cx="2139840" cy="28440"/>
            </a:xfrm>
            <a:prstGeom prst="rect">
              <a:avLst/>
            </a:prstGeom>
            <a:solidFill>
              <a:srgbClr val="c0c0c0"/>
            </a:solidFill>
            <a:ln w="11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6842160" y="6107040"/>
              <a:ext cx="2301840" cy="173160"/>
              <a:chOff x="6842160" y="6107040"/>
              <a:chExt cx="2301840" cy="173160"/>
            </a:xfrm>
          </p:grpSpPr>
          <p:sp>
            <p:nvSpPr>
              <p:cNvPr id="213" name=""/>
              <p:cNvSpPr/>
              <p:nvPr/>
            </p:nvSpPr>
            <p:spPr>
              <a:xfrm>
                <a:off x="6981840" y="6107040"/>
                <a:ext cx="2022480" cy="1764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842160" y="6267600"/>
                <a:ext cx="2301840" cy="1260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923160" y="6145200"/>
                <a:ext cx="2139840" cy="2700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89680" y="6192720"/>
                <a:ext cx="2206800" cy="3348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307280" y="5281560"/>
              <a:ext cx="243000" cy="804960"/>
              <a:chOff x="7307280" y="5281560"/>
              <a:chExt cx="243000" cy="804960"/>
            </a:xfrm>
          </p:grpSpPr>
          <p:sp>
            <p:nvSpPr>
              <p:cNvPr id="218" name=""/>
              <p:cNvSpPr/>
              <p:nvPr/>
            </p:nvSpPr>
            <p:spPr>
              <a:xfrm>
                <a:off x="7307280" y="6066000"/>
                <a:ext cx="2430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307280" y="5281560"/>
                <a:ext cx="2430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7348680" y="5316480"/>
                <a:ext cx="172800" cy="735120"/>
                <a:chOff x="7348680" y="5316480"/>
                <a:chExt cx="172800" cy="7351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7348680" y="5316480"/>
                  <a:ext cx="17280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40412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44228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48044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36776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6" name=""/>
            <p:cNvGrpSpPr/>
            <p:nvPr/>
          </p:nvGrpSpPr>
          <p:grpSpPr>
            <a:xfrm>
              <a:off x="7589880" y="5281560"/>
              <a:ext cx="243000" cy="804960"/>
              <a:chOff x="7589880" y="5281560"/>
              <a:chExt cx="243000" cy="804960"/>
            </a:xfrm>
          </p:grpSpPr>
          <p:sp>
            <p:nvSpPr>
              <p:cNvPr id="227" name=""/>
              <p:cNvSpPr/>
              <p:nvPr/>
            </p:nvSpPr>
            <p:spPr>
              <a:xfrm>
                <a:off x="7589880" y="6066000"/>
                <a:ext cx="2430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589880" y="5281560"/>
                <a:ext cx="2430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7629480" y="5316480"/>
                <a:ext cx="173160" cy="735120"/>
                <a:chOff x="7629480" y="5316480"/>
                <a:chExt cx="173160" cy="7351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7629480" y="5316480"/>
                  <a:ext cx="17316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68672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72308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76124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64856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5" name=""/>
            <p:cNvGrpSpPr/>
            <p:nvPr/>
          </p:nvGrpSpPr>
          <p:grpSpPr>
            <a:xfrm>
              <a:off x="7864560" y="5281560"/>
              <a:ext cx="241200" cy="804960"/>
              <a:chOff x="7864560" y="5281560"/>
              <a:chExt cx="241200" cy="804960"/>
            </a:xfrm>
          </p:grpSpPr>
          <p:sp>
            <p:nvSpPr>
              <p:cNvPr id="236" name=""/>
              <p:cNvSpPr/>
              <p:nvPr/>
            </p:nvSpPr>
            <p:spPr>
              <a:xfrm>
                <a:off x="7864560" y="6066000"/>
                <a:ext cx="2412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864560" y="5281560"/>
                <a:ext cx="2412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7902720" y="5316480"/>
                <a:ext cx="172800" cy="735120"/>
                <a:chOff x="7902720" y="5316480"/>
                <a:chExt cx="172800" cy="7351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7902720" y="5316480"/>
                  <a:ext cx="17280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95960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99776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803448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92180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4" name=""/>
            <p:cNvGrpSpPr/>
            <p:nvPr/>
          </p:nvGrpSpPr>
          <p:grpSpPr>
            <a:xfrm>
              <a:off x="8139240" y="5281560"/>
              <a:ext cx="242640" cy="804960"/>
              <a:chOff x="8139240" y="5281560"/>
              <a:chExt cx="242640" cy="804960"/>
            </a:xfrm>
          </p:grpSpPr>
          <p:sp>
            <p:nvSpPr>
              <p:cNvPr id="245" name=""/>
              <p:cNvSpPr/>
              <p:nvPr/>
            </p:nvSpPr>
            <p:spPr>
              <a:xfrm>
                <a:off x="8139240" y="6066000"/>
                <a:ext cx="24264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139240" y="5281560"/>
                <a:ext cx="24264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8178840" y="5316480"/>
                <a:ext cx="173160" cy="735120"/>
                <a:chOff x="8178840" y="5316480"/>
                <a:chExt cx="173160" cy="7351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8178840" y="5316480"/>
                  <a:ext cx="17316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23608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27388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831060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819792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3" name=""/>
            <p:cNvGrpSpPr/>
            <p:nvPr/>
          </p:nvGrpSpPr>
          <p:grpSpPr>
            <a:xfrm>
              <a:off x="8696160" y="5281560"/>
              <a:ext cx="243000" cy="804960"/>
              <a:chOff x="8696160" y="5281560"/>
              <a:chExt cx="243000" cy="804960"/>
            </a:xfrm>
          </p:grpSpPr>
          <p:sp>
            <p:nvSpPr>
              <p:cNvPr id="254" name=""/>
              <p:cNvSpPr/>
              <p:nvPr/>
            </p:nvSpPr>
            <p:spPr>
              <a:xfrm>
                <a:off x="8696160" y="6066000"/>
                <a:ext cx="2430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696160" y="5281560"/>
                <a:ext cx="2430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8737560" y="5316480"/>
                <a:ext cx="173160" cy="735120"/>
                <a:chOff x="8737560" y="5316480"/>
                <a:chExt cx="173160" cy="7351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8737560" y="5316480"/>
                  <a:ext cx="17316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79480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883116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86932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875520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2" name=""/>
            <p:cNvGrpSpPr/>
            <p:nvPr/>
          </p:nvGrpSpPr>
          <p:grpSpPr>
            <a:xfrm>
              <a:off x="7029360" y="5281560"/>
              <a:ext cx="243000" cy="804960"/>
              <a:chOff x="7029360" y="5281560"/>
              <a:chExt cx="243000" cy="804960"/>
            </a:xfrm>
          </p:grpSpPr>
          <p:sp>
            <p:nvSpPr>
              <p:cNvPr id="263" name=""/>
              <p:cNvSpPr/>
              <p:nvPr/>
            </p:nvSpPr>
            <p:spPr>
              <a:xfrm>
                <a:off x="7029360" y="6066000"/>
                <a:ext cx="2430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029360" y="5281560"/>
                <a:ext cx="2430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7070760" y="5316480"/>
                <a:ext cx="171360" cy="735120"/>
                <a:chOff x="7070760" y="5316480"/>
                <a:chExt cx="171360" cy="7351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7070760" y="5316480"/>
                  <a:ext cx="17136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12476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16292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20108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08804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8421840" y="5281560"/>
              <a:ext cx="242640" cy="804960"/>
              <a:chOff x="8421840" y="5281560"/>
              <a:chExt cx="242640" cy="804960"/>
            </a:xfrm>
          </p:grpSpPr>
          <p:sp>
            <p:nvSpPr>
              <p:cNvPr id="272" name=""/>
              <p:cNvSpPr/>
              <p:nvPr/>
            </p:nvSpPr>
            <p:spPr>
              <a:xfrm>
                <a:off x="8421840" y="6066000"/>
                <a:ext cx="24264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421840" y="5281560"/>
                <a:ext cx="24264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8461440" y="5316480"/>
                <a:ext cx="172800" cy="735120"/>
                <a:chOff x="8461440" y="5316480"/>
                <a:chExt cx="172800" cy="7351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461440" y="5316480"/>
                  <a:ext cx="17280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51688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55504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59320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48052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 MT Extra Bold"/>
              </a:rPr>
              <a:t>U.S. FEDERAL PRIVACY LAWS</a:t>
            </a:r>
            <a:endParaRPr b="1" lang="en-US" sz="36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FEDERAL PRIVACY LAWS: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0852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REEDOM OF INFORMATION ACT, 1968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0852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RIVACY ACT OF 1974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0852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ELECTRONIC COMMUNICATIONS PRIVACY ACT OF 1986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0852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MPUTER MATCHING AND PRIVACY PROTECTION ACT OF 1988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0852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MPUTER SECURITY ACT OF 1987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0852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EDERAL MANAGERS FINANCIAL INTEGRITY ACT OF 1982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0852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dur="indefinite" fill="hold">
                      <p:stCondLst>
                        <p:cond delay="0"/>
                      </p:stCondLst>
                      <p:childTnLst>
                        <p:par>
                          <p:cTn id="4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 fill="hold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dur="indefinite" fill="hold">
                      <p:stCondLst>
                        <p:cond delay="indefinite"/>
                      </p:stCondLst>
                      <p:childTnLst>
                        <p:par>
                          <p:cTn id="4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dur="indefinite" fill="hold">
                      <p:stCondLst>
                        <p:cond delay="indefinite"/>
                      </p:stCondLst>
                      <p:childTnLst>
                        <p:par>
                          <p:cTn id="4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dur="indefinite" fill="hold">
                      <p:stCondLst>
                        <p:cond delay="indefinite"/>
                      </p:stCondLst>
                      <p:childTnLst>
                        <p:par>
                          <p:cTn id="4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dur="indefinite" fill="hold">
                      <p:stCondLst>
                        <p:cond delay="indefinite"/>
                      </p:stCondLst>
                      <p:childTnLst>
                        <p:par>
                          <p:cTn id="4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dur="indefinite" fill="hold">
                      <p:stCondLst>
                        <p:cond delay="indefinite"/>
                      </p:stCondLst>
                      <p:childTnLst>
                        <p:par>
                          <p:cTn id="4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dur="indefinite" fill="hold">
                      <p:stCondLst>
                        <p:cond delay="indefinite"/>
                      </p:stCondLst>
                      <p:childTnLst>
                        <p:par>
                          <p:cTn id="4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dur="indefinite" fill="hold">
                      <p:stCondLst>
                        <p:cond delay="indefinite"/>
                      </p:stCondLst>
                      <p:childTnLst>
                        <p:par>
                          <p:cTn id="4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dur="indefinite" fill="hold">
                      <p:stCondLst>
                        <p:cond delay="indefinite"/>
                      </p:stCondLst>
                      <p:childTnLst>
                        <p:par>
                          <p:cTn id="4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6842160" y="4667400"/>
            <a:ext cx="2301840" cy="1612800"/>
            <a:chOff x="6842160" y="4667400"/>
            <a:chExt cx="2301840" cy="1612800"/>
          </a:xfrm>
        </p:grpSpPr>
        <p:sp>
          <p:nvSpPr>
            <p:cNvPr id="283" name=""/>
            <p:cNvSpPr/>
            <p:nvPr/>
          </p:nvSpPr>
          <p:spPr>
            <a:xfrm>
              <a:off x="7051680" y="5100480"/>
              <a:ext cx="1887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00840" y="4667400"/>
              <a:ext cx="2187720" cy="476280"/>
            </a:xfrm>
            <a:custGeom>
              <a:avLst/>
              <a:gdLst/>
              <a:ahLst/>
              <a:rect l="l" t="t" r="r" b="b"/>
              <a:pathLst>
                <a:path w="4579" h="996">
                  <a:moveTo>
                    <a:pt x="0" y="996"/>
                  </a:moveTo>
                  <a:lnTo>
                    <a:pt x="4579" y="996"/>
                  </a:lnTo>
                  <a:lnTo>
                    <a:pt x="2294" y="0"/>
                  </a:lnTo>
                  <a:lnTo>
                    <a:pt x="0" y="996"/>
                  </a:lnTo>
                  <a:close/>
                </a:path>
              </a:pathLst>
            </a:custGeom>
            <a:solidFill>
              <a:srgbClr val="c0c0c0"/>
            </a:solidFill>
            <a:ln w="11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62840" y="4700520"/>
              <a:ext cx="1871640" cy="401760"/>
            </a:xfrm>
            <a:custGeom>
              <a:avLst/>
              <a:gdLst/>
              <a:ahLst/>
              <a:rect l="l" t="t" r="r" b="b"/>
              <a:pathLst>
                <a:path w="3919" h="842">
                  <a:moveTo>
                    <a:pt x="0" y="842"/>
                  </a:moveTo>
                  <a:lnTo>
                    <a:pt x="3919" y="842"/>
                  </a:lnTo>
                  <a:lnTo>
                    <a:pt x="1965" y="0"/>
                  </a:lnTo>
                  <a:lnTo>
                    <a:pt x="0" y="842"/>
                  </a:lnTo>
                  <a:close/>
                </a:path>
              </a:pathLst>
            </a:custGeom>
            <a:solidFill>
              <a:srgbClr val="cecece"/>
            </a:solidFill>
            <a:ln w="11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889680" y="5181480"/>
              <a:ext cx="2220840" cy="22320"/>
            </a:xfrm>
            <a:prstGeom prst="rect">
              <a:avLst/>
            </a:prstGeom>
            <a:solidFill>
              <a:srgbClr val="c0c0c0"/>
            </a:solidFill>
            <a:ln w="11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23160" y="5234040"/>
              <a:ext cx="2139840" cy="28440"/>
            </a:xfrm>
            <a:prstGeom prst="rect">
              <a:avLst/>
            </a:prstGeom>
            <a:solidFill>
              <a:srgbClr val="c0c0c0"/>
            </a:solidFill>
            <a:ln w="11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6842160" y="6107040"/>
              <a:ext cx="2301840" cy="173160"/>
              <a:chOff x="6842160" y="6107040"/>
              <a:chExt cx="2301840" cy="173160"/>
            </a:xfrm>
          </p:grpSpPr>
          <p:sp>
            <p:nvSpPr>
              <p:cNvPr id="289" name=""/>
              <p:cNvSpPr/>
              <p:nvPr/>
            </p:nvSpPr>
            <p:spPr>
              <a:xfrm>
                <a:off x="6981840" y="6107040"/>
                <a:ext cx="2022480" cy="1764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842160" y="6267600"/>
                <a:ext cx="2301840" cy="1260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923160" y="6145200"/>
                <a:ext cx="2139840" cy="2700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889680" y="6192720"/>
                <a:ext cx="2206800" cy="3348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7307280" y="5281560"/>
              <a:ext cx="243000" cy="804960"/>
              <a:chOff x="7307280" y="5281560"/>
              <a:chExt cx="243000" cy="804960"/>
            </a:xfrm>
          </p:grpSpPr>
          <p:sp>
            <p:nvSpPr>
              <p:cNvPr id="294" name=""/>
              <p:cNvSpPr/>
              <p:nvPr/>
            </p:nvSpPr>
            <p:spPr>
              <a:xfrm>
                <a:off x="7307280" y="6066000"/>
                <a:ext cx="2430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307280" y="5281560"/>
                <a:ext cx="2430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7348680" y="5316480"/>
                <a:ext cx="172800" cy="735120"/>
                <a:chOff x="7348680" y="5316480"/>
                <a:chExt cx="172800" cy="7351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7348680" y="5316480"/>
                  <a:ext cx="17280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40412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44228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48044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36776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2" name=""/>
            <p:cNvGrpSpPr/>
            <p:nvPr/>
          </p:nvGrpSpPr>
          <p:grpSpPr>
            <a:xfrm>
              <a:off x="7589880" y="5281560"/>
              <a:ext cx="243000" cy="804960"/>
              <a:chOff x="7589880" y="5281560"/>
              <a:chExt cx="243000" cy="804960"/>
            </a:xfrm>
          </p:grpSpPr>
          <p:sp>
            <p:nvSpPr>
              <p:cNvPr id="303" name=""/>
              <p:cNvSpPr/>
              <p:nvPr/>
            </p:nvSpPr>
            <p:spPr>
              <a:xfrm>
                <a:off x="7589880" y="6066000"/>
                <a:ext cx="2430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589880" y="5281560"/>
                <a:ext cx="2430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7629480" y="5316480"/>
                <a:ext cx="173160" cy="735120"/>
                <a:chOff x="7629480" y="5316480"/>
                <a:chExt cx="173160" cy="7351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7629480" y="5316480"/>
                  <a:ext cx="17316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68672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72308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76124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64856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1" name=""/>
            <p:cNvGrpSpPr/>
            <p:nvPr/>
          </p:nvGrpSpPr>
          <p:grpSpPr>
            <a:xfrm>
              <a:off x="7864560" y="5281560"/>
              <a:ext cx="241200" cy="804960"/>
              <a:chOff x="7864560" y="5281560"/>
              <a:chExt cx="241200" cy="804960"/>
            </a:xfrm>
          </p:grpSpPr>
          <p:sp>
            <p:nvSpPr>
              <p:cNvPr id="312" name=""/>
              <p:cNvSpPr/>
              <p:nvPr/>
            </p:nvSpPr>
            <p:spPr>
              <a:xfrm>
                <a:off x="7864560" y="6066000"/>
                <a:ext cx="2412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864560" y="5281560"/>
                <a:ext cx="2412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7902720" y="5316480"/>
                <a:ext cx="172800" cy="735120"/>
                <a:chOff x="7902720" y="5316480"/>
                <a:chExt cx="172800" cy="7351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7902720" y="5316480"/>
                  <a:ext cx="17280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95960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99776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803448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92180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0" name=""/>
            <p:cNvGrpSpPr/>
            <p:nvPr/>
          </p:nvGrpSpPr>
          <p:grpSpPr>
            <a:xfrm>
              <a:off x="8139240" y="5281560"/>
              <a:ext cx="242640" cy="804960"/>
              <a:chOff x="8139240" y="5281560"/>
              <a:chExt cx="242640" cy="804960"/>
            </a:xfrm>
          </p:grpSpPr>
          <p:sp>
            <p:nvSpPr>
              <p:cNvPr id="321" name=""/>
              <p:cNvSpPr/>
              <p:nvPr/>
            </p:nvSpPr>
            <p:spPr>
              <a:xfrm>
                <a:off x="8139240" y="6066000"/>
                <a:ext cx="24264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139240" y="5281560"/>
                <a:ext cx="24264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3" name=""/>
              <p:cNvGrpSpPr/>
              <p:nvPr/>
            </p:nvGrpSpPr>
            <p:grpSpPr>
              <a:xfrm>
                <a:off x="8178840" y="5316480"/>
                <a:ext cx="173160" cy="735120"/>
                <a:chOff x="8178840" y="5316480"/>
                <a:chExt cx="173160" cy="7351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8178840" y="5316480"/>
                  <a:ext cx="17316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823608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827388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831060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19792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9" name=""/>
            <p:cNvGrpSpPr/>
            <p:nvPr/>
          </p:nvGrpSpPr>
          <p:grpSpPr>
            <a:xfrm>
              <a:off x="8696160" y="5281560"/>
              <a:ext cx="243000" cy="804960"/>
              <a:chOff x="8696160" y="5281560"/>
              <a:chExt cx="243000" cy="804960"/>
            </a:xfrm>
          </p:grpSpPr>
          <p:sp>
            <p:nvSpPr>
              <p:cNvPr id="330" name=""/>
              <p:cNvSpPr/>
              <p:nvPr/>
            </p:nvSpPr>
            <p:spPr>
              <a:xfrm>
                <a:off x="8696160" y="6066000"/>
                <a:ext cx="2430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696160" y="5281560"/>
                <a:ext cx="2430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2" name=""/>
              <p:cNvGrpSpPr/>
              <p:nvPr/>
            </p:nvGrpSpPr>
            <p:grpSpPr>
              <a:xfrm>
                <a:off x="8737560" y="5316480"/>
                <a:ext cx="173160" cy="735120"/>
                <a:chOff x="8737560" y="5316480"/>
                <a:chExt cx="173160" cy="7351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8737560" y="5316480"/>
                  <a:ext cx="17316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879480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883116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886932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875520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8" name=""/>
            <p:cNvGrpSpPr/>
            <p:nvPr/>
          </p:nvGrpSpPr>
          <p:grpSpPr>
            <a:xfrm>
              <a:off x="7029360" y="5281560"/>
              <a:ext cx="243000" cy="804960"/>
              <a:chOff x="7029360" y="5281560"/>
              <a:chExt cx="243000" cy="804960"/>
            </a:xfrm>
          </p:grpSpPr>
          <p:sp>
            <p:nvSpPr>
              <p:cNvPr id="339" name=""/>
              <p:cNvSpPr/>
              <p:nvPr/>
            </p:nvSpPr>
            <p:spPr>
              <a:xfrm>
                <a:off x="7029360" y="6066000"/>
                <a:ext cx="2430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029360" y="5281560"/>
                <a:ext cx="2430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7070760" y="5316480"/>
                <a:ext cx="171360" cy="735120"/>
                <a:chOff x="7070760" y="5316480"/>
                <a:chExt cx="171360" cy="7351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7070760" y="5316480"/>
                  <a:ext cx="17136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12476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16292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20108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08804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7" name=""/>
            <p:cNvGrpSpPr/>
            <p:nvPr/>
          </p:nvGrpSpPr>
          <p:grpSpPr>
            <a:xfrm>
              <a:off x="8421840" y="5281560"/>
              <a:ext cx="242640" cy="804960"/>
              <a:chOff x="8421840" y="5281560"/>
              <a:chExt cx="242640" cy="804960"/>
            </a:xfrm>
          </p:grpSpPr>
          <p:sp>
            <p:nvSpPr>
              <p:cNvPr id="348" name=""/>
              <p:cNvSpPr/>
              <p:nvPr/>
            </p:nvSpPr>
            <p:spPr>
              <a:xfrm>
                <a:off x="8421840" y="6066000"/>
                <a:ext cx="24264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421840" y="5281560"/>
                <a:ext cx="24264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8461440" y="5316480"/>
                <a:ext cx="172800" cy="735120"/>
                <a:chOff x="8461440" y="5316480"/>
                <a:chExt cx="172800" cy="7351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8461440" y="5316480"/>
                  <a:ext cx="17280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51688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55504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59320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848052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IVACY LAWS AFFECTING PRIVATE INSTITUTIONS: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AIR CREDIT REPORTING ACT, 1970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AMILY EDUCATION RIGHTS &amp; PRIVACY ACT OF 1978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IGHT TO FINANCIAL PRIVACY ACT OF 1978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RIVACY PROTECTION ACT OF 1980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ABLE COMMUNICATIONS POLICY ACT OF 1984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ELECTRONIC COMMUNICATIONS PRIVACY ACT OF 1997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 MT Extra Bold"/>
              </a:rPr>
              <a:t>U.S. FEDERAL PRIVACY LAWS</a:t>
            </a:r>
            <a:endParaRPr b="1" lang="en-US" sz="36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p:transition>
    <p:strips dir="ld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dur="indefinite" fill="hold">
                      <p:stCondLst>
                        <p:cond delay="0"/>
                      </p:stCondLst>
                      <p:childTnLst>
                        <p:par>
                          <p:cTn id="4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 fill="hold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dur="indefinite" fill="hold">
                      <p:stCondLst>
                        <p:cond delay="indefinite"/>
                      </p:stCondLst>
                      <p:childTnLst>
                        <p:par>
                          <p:cTn id="4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dur="indefinite" fill="hold">
                      <p:stCondLst>
                        <p:cond delay="indefinite"/>
                      </p:stCondLst>
                      <p:childTnLst>
                        <p:par>
                          <p:cTn id="5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6" dur="indefinite" fill="hold">
                      <p:stCondLst>
                        <p:cond delay="indefinite"/>
                      </p:stCondLst>
                      <p:childTnLst>
                        <p:par>
                          <p:cTn id="5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dur="indefinite" fill="hold">
                      <p:stCondLst>
                        <p:cond delay="indefinite"/>
                      </p:stCondLst>
                      <p:childTnLst>
                        <p:par>
                          <p:cTn id="5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dur="indefinite" fill="hold">
                      <p:stCondLst>
                        <p:cond delay="indefinite"/>
                      </p:stCondLst>
                      <p:childTnLst>
                        <p:par>
                          <p:cTn id="5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dur="indefinite" fill="hold">
                      <p:stCondLst>
                        <p:cond delay="indefinite"/>
                      </p:stCondLst>
                      <p:childTnLst>
                        <p:par>
                          <p:cTn id="5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dur="indefinite" fill="hold">
                      <p:stCondLst>
                        <p:cond delay="indefinite"/>
                      </p:stCondLst>
                      <p:childTnLst>
                        <p:par>
                          <p:cTn id="5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dur="indefinite" fill="hold">
                      <p:stCondLst>
                        <p:cond delay="indefinite"/>
                      </p:stCondLst>
                      <p:childTnLst>
                        <p:par>
                          <p:cTn id="5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6842160" y="4667400"/>
            <a:ext cx="2301840" cy="1612800"/>
            <a:chOff x="6842160" y="4667400"/>
            <a:chExt cx="2301840" cy="1612800"/>
          </a:xfrm>
        </p:grpSpPr>
        <p:sp>
          <p:nvSpPr>
            <p:cNvPr id="359" name=""/>
            <p:cNvSpPr/>
            <p:nvPr/>
          </p:nvSpPr>
          <p:spPr>
            <a:xfrm>
              <a:off x="7051680" y="5100480"/>
              <a:ext cx="1887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00840" y="4667400"/>
              <a:ext cx="2187720" cy="476280"/>
            </a:xfrm>
            <a:custGeom>
              <a:avLst/>
              <a:gdLst/>
              <a:ahLst/>
              <a:rect l="l" t="t" r="r" b="b"/>
              <a:pathLst>
                <a:path w="4579" h="996">
                  <a:moveTo>
                    <a:pt x="0" y="996"/>
                  </a:moveTo>
                  <a:lnTo>
                    <a:pt x="4579" y="996"/>
                  </a:lnTo>
                  <a:lnTo>
                    <a:pt x="2294" y="0"/>
                  </a:lnTo>
                  <a:lnTo>
                    <a:pt x="0" y="996"/>
                  </a:lnTo>
                  <a:close/>
                </a:path>
              </a:pathLst>
            </a:custGeom>
            <a:solidFill>
              <a:srgbClr val="c0c0c0"/>
            </a:solidFill>
            <a:ln w="11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62840" y="4700520"/>
              <a:ext cx="1871640" cy="401760"/>
            </a:xfrm>
            <a:custGeom>
              <a:avLst/>
              <a:gdLst/>
              <a:ahLst/>
              <a:rect l="l" t="t" r="r" b="b"/>
              <a:pathLst>
                <a:path w="3919" h="842">
                  <a:moveTo>
                    <a:pt x="0" y="842"/>
                  </a:moveTo>
                  <a:lnTo>
                    <a:pt x="3919" y="842"/>
                  </a:lnTo>
                  <a:lnTo>
                    <a:pt x="1965" y="0"/>
                  </a:lnTo>
                  <a:lnTo>
                    <a:pt x="0" y="842"/>
                  </a:lnTo>
                  <a:close/>
                </a:path>
              </a:pathLst>
            </a:custGeom>
            <a:solidFill>
              <a:srgbClr val="cecece"/>
            </a:solidFill>
            <a:ln w="11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889680" y="5181480"/>
              <a:ext cx="2220840" cy="22320"/>
            </a:xfrm>
            <a:prstGeom prst="rect">
              <a:avLst/>
            </a:prstGeom>
            <a:solidFill>
              <a:srgbClr val="c0c0c0"/>
            </a:solidFill>
            <a:ln w="11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23160" y="5234040"/>
              <a:ext cx="2139840" cy="28440"/>
            </a:xfrm>
            <a:prstGeom prst="rect">
              <a:avLst/>
            </a:prstGeom>
            <a:solidFill>
              <a:srgbClr val="c0c0c0"/>
            </a:solidFill>
            <a:ln w="11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6842160" y="6107040"/>
              <a:ext cx="2301840" cy="173160"/>
              <a:chOff x="6842160" y="6107040"/>
              <a:chExt cx="2301840" cy="173160"/>
            </a:xfrm>
          </p:grpSpPr>
          <p:sp>
            <p:nvSpPr>
              <p:cNvPr id="365" name=""/>
              <p:cNvSpPr/>
              <p:nvPr/>
            </p:nvSpPr>
            <p:spPr>
              <a:xfrm>
                <a:off x="6981840" y="6107040"/>
                <a:ext cx="2022480" cy="1764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842160" y="6267600"/>
                <a:ext cx="2301840" cy="1260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923160" y="6145200"/>
                <a:ext cx="2139840" cy="2700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889680" y="6192720"/>
                <a:ext cx="2206800" cy="3348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7307280" y="5281560"/>
              <a:ext cx="243000" cy="804960"/>
              <a:chOff x="7307280" y="5281560"/>
              <a:chExt cx="243000" cy="804960"/>
            </a:xfrm>
          </p:grpSpPr>
          <p:sp>
            <p:nvSpPr>
              <p:cNvPr id="370" name=""/>
              <p:cNvSpPr/>
              <p:nvPr/>
            </p:nvSpPr>
            <p:spPr>
              <a:xfrm>
                <a:off x="7307280" y="6066000"/>
                <a:ext cx="2430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307280" y="5281560"/>
                <a:ext cx="2430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2" name=""/>
              <p:cNvGrpSpPr/>
              <p:nvPr/>
            </p:nvGrpSpPr>
            <p:grpSpPr>
              <a:xfrm>
                <a:off x="7348680" y="5316480"/>
                <a:ext cx="172800" cy="735120"/>
                <a:chOff x="7348680" y="5316480"/>
                <a:chExt cx="172800" cy="735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348680" y="5316480"/>
                  <a:ext cx="17280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0412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44228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48044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36776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8" name=""/>
            <p:cNvGrpSpPr/>
            <p:nvPr/>
          </p:nvGrpSpPr>
          <p:grpSpPr>
            <a:xfrm>
              <a:off x="7589880" y="5281560"/>
              <a:ext cx="243000" cy="804960"/>
              <a:chOff x="7589880" y="5281560"/>
              <a:chExt cx="243000" cy="804960"/>
            </a:xfrm>
          </p:grpSpPr>
          <p:sp>
            <p:nvSpPr>
              <p:cNvPr id="379" name=""/>
              <p:cNvSpPr/>
              <p:nvPr/>
            </p:nvSpPr>
            <p:spPr>
              <a:xfrm>
                <a:off x="7589880" y="6066000"/>
                <a:ext cx="2430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589880" y="5281560"/>
                <a:ext cx="2430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7629480" y="5316480"/>
                <a:ext cx="173160" cy="735120"/>
                <a:chOff x="7629480" y="5316480"/>
                <a:chExt cx="173160" cy="735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7629480" y="5316480"/>
                  <a:ext cx="17316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68672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72308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76124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64856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7" name=""/>
            <p:cNvGrpSpPr/>
            <p:nvPr/>
          </p:nvGrpSpPr>
          <p:grpSpPr>
            <a:xfrm>
              <a:off x="7864560" y="5281560"/>
              <a:ext cx="241200" cy="804960"/>
              <a:chOff x="7864560" y="5281560"/>
              <a:chExt cx="241200" cy="804960"/>
            </a:xfrm>
          </p:grpSpPr>
          <p:sp>
            <p:nvSpPr>
              <p:cNvPr id="388" name=""/>
              <p:cNvSpPr/>
              <p:nvPr/>
            </p:nvSpPr>
            <p:spPr>
              <a:xfrm>
                <a:off x="7864560" y="6066000"/>
                <a:ext cx="2412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864560" y="5281560"/>
                <a:ext cx="2412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7902720" y="5316480"/>
                <a:ext cx="172800" cy="735120"/>
                <a:chOff x="7902720" y="5316480"/>
                <a:chExt cx="172800" cy="735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902720" y="5316480"/>
                  <a:ext cx="17280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95960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99776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803448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92180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6" name=""/>
            <p:cNvGrpSpPr/>
            <p:nvPr/>
          </p:nvGrpSpPr>
          <p:grpSpPr>
            <a:xfrm>
              <a:off x="8139240" y="5281560"/>
              <a:ext cx="242640" cy="804960"/>
              <a:chOff x="8139240" y="5281560"/>
              <a:chExt cx="242640" cy="804960"/>
            </a:xfrm>
          </p:grpSpPr>
          <p:sp>
            <p:nvSpPr>
              <p:cNvPr id="397" name=""/>
              <p:cNvSpPr/>
              <p:nvPr/>
            </p:nvSpPr>
            <p:spPr>
              <a:xfrm>
                <a:off x="8139240" y="6066000"/>
                <a:ext cx="24264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139240" y="5281560"/>
                <a:ext cx="24264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9" name=""/>
              <p:cNvGrpSpPr/>
              <p:nvPr/>
            </p:nvGrpSpPr>
            <p:grpSpPr>
              <a:xfrm>
                <a:off x="8178840" y="5316480"/>
                <a:ext cx="173160" cy="735120"/>
                <a:chOff x="8178840" y="5316480"/>
                <a:chExt cx="173160" cy="735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8178840" y="5316480"/>
                  <a:ext cx="17316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823608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827388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831060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819792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5" name=""/>
            <p:cNvGrpSpPr/>
            <p:nvPr/>
          </p:nvGrpSpPr>
          <p:grpSpPr>
            <a:xfrm>
              <a:off x="8696160" y="5281560"/>
              <a:ext cx="243000" cy="804960"/>
              <a:chOff x="8696160" y="5281560"/>
              <a:chExt cx="243000" cy="804960"/>
            </a:xfrm>
          </p:grpSpPr>
          <p:sp>
            <p:nvSpPr>
              <p:cNvPr id="406" name=""/>
              <p:cNvSpPr/>
              <p:nvPr/>
            </p:nvSpPr>
            <p:spPr>
              <a:xfrm>
                <a:off x="8696160" y="6066000"/>
                <a:ext cx="2430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696160" y="5281560"/>
                <a:ext cx="2430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8" name=""/>
              <p:cNvGrpSpPr/>
              <p:nvPr/>
            </p:nvGrpSpPr>
            <p:grpSpPr>
              <a:xfrm>
                <a:off x="8737560" y="5316480"/>
                <a:ext cx="173160" cy="735120"/>
                <a:chOff x="8737560" y="5316480"/>
                <a:chExt cx="173160" cy="735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8737560" y="5316480"/>
                  <a:ext cx="17316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879480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883116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886932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75520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4" name=""/>
            <p:cNvGrpSpPr/>
            <p:nvPr/>
          </p:nvGrpSpPr>
          <p:grpSpPr>
            <a:xfrm>
              <a:off x="7029360" y="5281560"/>
              <a:ext cx="243000" cy="804960"/>
              <a:chOff x="7029360" y="5281560"/>
              <a:chExt cx="243000" cy="804960"/>
            </a:xfrm>
          </p:grpSpPr>
          <p:sp>
            <p:nvSpPr>
              <p:cNvPr id="415" name=""/>
              <p:cNvSpPr/>
              <p:nvPr/>
            </p:nvSpPr>
            <p:spPr>
              <a:xfrm>
                <a:off x="7029360" y="6066000"/>
                <a:ext cx="2430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29360" y="5281560"/>
                <a:ext cx="2430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7070760" y="5316480"/>
                <a:ext cx="171360" cy="735120"/>
                <a:chOff x="7070760" y="5316480"/>
                <a:chExt cx="171360" cy="735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7070760" y="5316480"/>
                  <a:ext cx="17136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12476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16292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20108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708804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3" name=""/>
            <p:cNvGrpSpPr/>
            <p:nvPr/>
          </p:nvGrpSpPr>
          <p:grpSpPr>
            <a:xfrm>
              <a:off x="8421840" y="5281560"/>
              <a:ext cx="242640" cy="804960"/>
              <a:chOff x="8421840" y="5281560"/>
              <a:chExt cx="242640" cy="804960"/>
            </a:xfrm>
          </p:grpSpPr>
          <p:sp>
            <p:nvSpPr>
              <p:cNvPr id="424" name=""/>
              <p:cNvSpPr/>
              <p:nvPr/>
            </p:nvSpPr>
            <p:spPr>
              <a:xfrm>
                <a:off x="8421840" y="6066000"/>
                <a:ext cx="24264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421840" y="5281560"/>
                <a:ext cx="24264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6" name=""/>
              <p:cNvGrpSpPr/>
              <p:nvPr/>
            </p:nvGrpSpPr>
            <p:grpSpPr>
              <a:xfrm>
                <a:off x="8461440" y="5316480"/>
                <a:ext cx="172800" cy="735120"/>
                <a:chOff x="8461440" y="5316480"/>
                <a:chExt cx="172800" cy="735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8461440" y="5316480"/>
                  <a:ext cx="17280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851688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855504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59320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848052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MORE PRIVACY LAWS AFFECTING PRIVATE INSTITUTIONS: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052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VIDEO PRIVACY PROTECTION ACT OF 1988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052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NSUMER INTERNET PRIVACY PROTECTION ACT OF 1997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052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MMUNICATIONS PRIVACY &amp; CONSUMER EMPOWERMENT ACT OF 1997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052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ATA PRIVACY ACT OF 1997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052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NSUMER INTERNET PRIVACY PROTECTION ACT OF 1999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052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 MT Extra Bold"/>
              </a:rPr>
              <a:t>U.S. FEDERAL PRIVACY LAWS</a:t>
            </a:r>
            <a:endParaRPr b="1" lang="en-US" sz="36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p:transition>
    <p:strips dir="ld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dur="indefinite" fill="hold">
                      <p:stCondLst>
                        <p:cond delay="0"/>
                      </p:stCondLst>
                      <p:childTnLst>
                        <p:par>
                          <p:cTn id="5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 fill="hold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dur="indefinite" fill="hold">
                      <p:stCondLst>
                        <p:cond delay="indefinite"/>
                      </p:stCondLst>
                      <p:childTnLst>
                        <p:par>
                          <p:cTn id="5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dur="indefinite" fill="hold">
                      <p:stCondLst>
                        <p:cond delay="indefinite"/>
                      </p:stCondLst>
                      <p:childTnLst>
                        <p:par>
                          <p:cTn id="5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2" dur="indefinite" fill="hold">
                      <p:stCondLst>
                        <p:cond delay="indefinite"/>
                      </p:stCondLst>
                      <p:childTnLst>
                        <p:par>
                          <p:cTn id="5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dur="indefinite" fill="hold">
                      <p:stCondLst>
                        <p:cond delay="indefinite"/>
                      </p:stCondLst>
                      <p:childTnLst>
                        <p:par>
                          <p:cTn id="5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dur="indefinite" fill="hold">
                      <p:stCondLst>
                        <p:cond delay="indefinite"/>
                      </p:stCondLst>
                      <p:childTnLst>
                        <p:par>
                          <p:cTn id="5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dur="indefinite" fill="hold">
                      <p:stCondLst>
                        <p:cond delay="indefinite"/>
                      </p:stCondLst>
                      <p:childTnLst>
                        <p:par>
                          <p:cTn id="5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dur="indefinite" fill="hold">
                      <p:stCondLst>
                        <p:cond delay="indefinite"/>
                      </p:stCondLst>
                      <p:childTnLst>
                        <p:par>
                          <p:cTn id="5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ETHICAL ISSUES: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 Who is morally responsible for consequences of use?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CIAL ISSUES: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What should society expect and allow?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POLITICAL ISSUES: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To what extent should government intervene, protect?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 MT Extra Bold"/>
              </a:rPr>
              <a:t>ACCOUNTABILITY, LIABILITY &amp; CONTROL</a:t>
            </a:r>
            <a:endParaRPr b="1" lang="en-US" sz="28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8167680" y="-289080"/>
          <a:ext cx="1004760" cy="743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7680" y="-289080"/>
                    <a:ext cx="1004760" cy="743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dur="indefinite" fill="hold">
                      <p:stCondLst>
                        <p:cond delay="0"/>
                      </p:stCondLst>
                      <p:childTnLst>
                        <p:par>
                          <p:cTn id="5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dur="indefinite" fill="hold">
                      <p:stCondLst>
                        <p:cond delay="indefinite"/>
                      </p:stCondLst>
                      <p:childTnLst>
                        <p:par>
                          <p:cTn id="6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dur="indefinite" fill="hold">
                      <p:stCondLst>
                        <p:cond delay="indefinite"/>
                      </p:stCondLst>
                      <p:childTnLst>
                        <p:par>
                          <p:cTn id="6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dur="indefinite" fill="hold">
                      <p:stCondLst>
                        <p:cond delay="indefinite"/>
                      </p:stCondLst>
                      <p:childTnLst>
                        <p:par>
                          <p:cTn id="6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dur="indefinite" fill="hold">
                      <p:stCondLst>
                        <p:cond delay="indefinite"/>
                      </p:stCondLst>
                      <p:childTnLst>
                        <p:par>
                          <p:cTn id="6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"/>
          <p:cNvGrpSpPr/>
          <p:nvPr/>
        </p:nvGrpSpPr>
        <p:grpSpPr>
          <a:xfrm>
            <a:off x="4813200" y="3848040"/>
            <a:ext cx="3826080" cy="2679840"/>
            <a:chOff x="4813200" y="3848040"/>
            <a:chExt cx="3826080" cy="2679840"/>
          </a:xfrm>
        </p:grpSpPr>
        <p:sp>
          <p:nvSpPr>
            <p:cNvPr id="439" name=""/>
            <p:cNvSpPr/>
            <p:nvPr/>
          </p:nvSpPr>
          <p:spPr>
            <a:xfrm>
              <a:off x="5160960" y="4568760"/>
              <a:ext cx="3138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11840" y="3848040"/>
              <a:ext cx="3635280" cy="790560"/>
            </a:xfrm>
            <a:custGeom>
              <a:avLst/>
              <a:gdLst/>
              <a:ahLst/>
              <a:rect l="l" t="t" r="r" b="b"/>
              <a:pathLst>
                <a:path w="4579" h="996">
                  <a:moveTo>
                    <a:pt x="0" y="996"/>
                  </a:moveTo>
                  <a:lnTo>
                    <a:pt x="4579" y="996"/>
                  </a:lnTo>
                  <a:lnTo>
                    <a:pt x="2294" y="0"/>
                  </a:lnTo>
                  <a:lnTo>
                    <a:pt x="0" y="996"/>
                  </a:lnTo>
                  <a:close/>
                </a:path>
              </a:pathLst>
            </a:custGeom>
            <a:solidFill>
              <a:srgbClr val="c0c0c0"/>
            </a:solidFill>
            <a:ln w="11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180040" y="3902040"/>
              <a:ext cx="3110040" cy="666720"/>
            </a:xfrm>
            <a:custGeom>
              <a:avLst/>
              <a:gdLst/>
              <a:ahLst/>
              <a:rect l="l" t="t" r="r" b="b"/>
              <a:pathLst>
                <a:path w="3919" h="842">
                  <a:moveTo>
                    <a:pt x="0" y="842"/>
                  </a:moveTo>
                  <a:lnTo>
                    <a:pt x="3919" y="842"/>
                  </a:lnTo>
                  <a:lnTo>
                    <a:pt x="1965" y="0"/>
                  </a:lnTo>
                  <a:lnTo>
                    <a:pt x="0" y="842"/>
                  </a:lnTo>
                  <a:close/>
                </a:path>
              </a:pathLst>
            </a:custGeom>
            <a:solidFill>
              <a:srgbClr val="cecece"/>
            </a:solidFill>
            <a:ln w="11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92760" y="4702320"/>
              <a:ext cx="3692520" cy="36360"/>
            </a:xfrm>
            <a:prstGeom prst="rect">
              <a:avLst/>
            </a:prstGeom>
            <a:solidFill>
              <a:srgbClr val="c0c0c0"/>
            </a:solidFill>
            <a:ln w="11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46760" y="4789440"/>
              <a:ext cx="3557520" cy="47520"/>
            </a:xfrm>
            <a:prstGeom prst="rect">
              <a:avLst/>
            </a:prstGeom>
            <a:solidFill>
              <a:srgbClr val="c0c0c0"/>
            </a:solidFill>
            <a:ln w="11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4813200" y="6240600"/>
              <a:ext cx="3826080" cy="287280"/>
              <a:chOff x="4813200" y="6240600"/>
              <a:chExt cx="3826080" cy="287280"/>
            </a:xfrm>
          </p:grpSpPr>
          <p:sp>
            <p:nvSpPr>
              <p:cNvPr id="445" name=""/>
              <p:cNvSpPr/>
              <p:nvPr/>
            </p:nvSpPr>
            <p:spPr>
              <a:xfrm>
                <a:off x="5045040" y="6240600"/>
                <a:ext cx="3362400" cy="2844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813200" y="6507000"/>
                <a:ext cx="3826080" cy="2088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946760" y="6303960"/>
                <a:ext cx="3557520" cy="4608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92760" y="6383160"/>
                <a:ext cx="3666960" cy="5580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5587920" y="4869000"/>
              <a:ext cx="403200" cy="1338120"/>
              <a:chOff x="5587920" y="4869000"/>
              <a:chExt cx="403200" cy="1338120"/>
            </a:xfrm>
          </p:grpSpPr>
          <p:sp>
            <p:nvSpPr>
              <p:cNvPr id="450" name=""/>
              <p:cNvSpPr/>
              <p:nvPr/>
            </p:nvSpPr>
            <p:spPr>
              <a:xfrm>
                <a:off x="5587920" y="6172200"/>
                <a:ext cx="403200" cy="349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87920" y="4869000"/>
                <a:ext cx="403200" cy="331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5654520" y="4927680"/>
                <a:ext cx="287640" cy="1220760"/>
                <a:chOff x="5654520" y="4927680"/>
                <a:chExt cx="287640" cy="122076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5654520" y="4927680"/>
                  <a:ext cx="287640" cy="12207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748480" y="4952880"/>
                  <a:ext cx="3960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81184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87376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686560" y="4952880"/>
                  <a:ext cx="363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8" name=""/>
            <p:cNvGrpSpPr/>
            <p:nvPr/>
          </p:nvGrpSpPr>
          <p:grpSpPr>
            <a:xfrm>
              <a:off x="6056280" y="4869000"/>
              <a:ext cx="403200" cy="1338120"/>
              <a:chOff x="6056280" y="4869000"/>
              <a:chExt cx="403200" cy="1338120"/>
            </a:xfrm>
          </p:grpSpPr>
          <p:sp>
            <p:nvSpPr>
              <p:cNvPr id="459" name=""/>
              <p:cNvSpPr/>
              <p:nvPr/>
            </p:nvSpPr>
            <p:spPr>
              <a:xfrm>
                <a:off x="6056280" y="6172200"/>
                <a:ext cx="403200" cy="349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056280" y="4869000"/>
                <a:ext cx="403200" cy="331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6122880" y="4927680"/>
                <a:ext cx="289080" cy="1220760"/>
                <a:chOff x="6122880" y="4927680"/>
                <a:chExt cx="289080" cy="12207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6122880" y="4927680"/>
                  <a:ext cx="289080" cy="12207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218280" y="4952880"/>
                  <a:ext cx="363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278400" y="4952880"/>
                  <a:ext cx="399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34212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15456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7" name=""/>
            <p:cNvGrpSpPr/>
            <p:nvPr/>
          </p:nvGrpSpPr>
          <p:grpSpPr>
            <a:xfrm>
              <a:off x="6512040" y="4869000"/>
              <a:ext cx="401400" cy="1338120"/>
              <a:chOff x="6512040" y="4869000"/>
              <a:chExt cx="401400" cy="1338120"/>
            </a:xfrm>
          </p:grpSpPr>
          <p:sp>
            <p:nvSpPr>
              <p:cNvPr id="468" name=""/>
              <p:cNvSpPr/>
              <p:nvPr/>
            </p:nvSpPr>
            <p:spPr>
              <a:xfrm>
                <a:off x="6512040" y="6172200"/>
                <a:ext cx="401400" cy="349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512040" y="4869000"/>
                <a:ext cx="401400" cy="331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0" name=""/>
              <p:cNvGrpSpPr/>
              <p:nvPr/>
            </p:nvGrpSpPr>
            <p:grpSpPr>
              <a:xfrm>
                <a:off x="6576840" y="4927680"/>
                <a:ext cx="287640" cy="1220760"/>
                <a:chOff x="6576840" y="4927680"/>
                <a:chExt cx="287640" cy="122076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6576840" y="4927680"/>
                  <a:ext cx="287640" cy="12207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670800" y="4952880"/>
                  <a:ext cx="3780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734160" y="4952880"/>
                  <a:ext cx="363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79608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0888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6" name=""/>
            <p:cNvGrpSpPr/>
            <p:nvPr/>
          </p:nvGrpSpPr>
          <p:grpSpPr>
            <a:xfrm>
              <a:off x="6969240" y="4869000"/>
              <a:ext cx="403200" cy="1338120"/>
              <a:chOff x="6969240" y="4869000"/>
              <a:chExt cx="403200" cy="1338120"/>
            </a:xfrm>
          </p:grpSpPr>
          <p:sp>
            <p:nvSpPr>
              <p:cNvPr id="477" name=""/>
              <p:cNvSpPr/>
              <p:nvPr/>
            </p:nvSpPr>
            <p:spPr>
              <a:xfrm>
                <a:off x="6969240" y="6172200"/>
                <a:ext cx="403200" cy="349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969240" y="4869000"/>
                <a:ext cx="403200" cy="331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7035840" y="4927680"/>
                <a:ext cx="288720" cy="1220760"/>
                <a:chOff x="7035840" y="4927680"/>
                <a:chExt cx="288720" cy="12207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7035840" y="4927680"/>
                  <a:ext cx="288720" cy="12207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129440" y="4952880"/>
                  <a:ext cx="3960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7192800" y="4952880"/>
                  <a:ext cx="3672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25472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06752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5" name=""/>
            <p:cNvGrpSpPr/>
            <p:nvPr/>
          </p:nvGrpSpPr>
          <p:grpSpPr>
            <a:xfrm>
              <a:off x="7896240" y="4869000"/>
              <a:ext cx="404640" cy="1338120"/>
              <a:chOff x="7896240" y="4869000"/>
              <a:chExt cx="404640" cy="1338120"/>
            </a:xfrm>
          </p:grpSpPr>
          <p:sp>
            <p:nvSpPr>
              <p:cNvPr id="486" name=""/>
              <p:cNvSpPr/>
              <p:nvPr/>
            </p:nvSpPr>
            <p:spPr>
              <a:xfrm>
                <a:off x="7896240" y="6172200"/>
                <a:ext cx="404640" cy="349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96240" y="4869000"/>
                <a:ext cx="404640" cy="331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8" name=""/>
              <p:cNvGrpSpPr/>
              <p:nvPr/>
            </p:nvGrpSpPr>
            <p:grpSpPr>
              <a:xfrm>
                <a:off x="7964640" y="4927680"/>
                <a:ext cx="287280" cy="1220760"/>
                <a:chOff x="7964640" y="4927680"/>
                <a:chExt cx="287280" cy="12207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7964640" y="4927680"/>
                  <a:ext cx="287280" cy="12207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805824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812016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818208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99452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4" name=""/>
            <p:cNvGrpSpPr/>
            <p:nvPr/>
          </p:nvGrpSpPr>
          <p:grpSpPr>
            <a:xfrm>
              <a:off x="5124600" y="4869000"/>
              <a:ext cx="403200" cy="1338120"/>
              <a:chOff x="5124600" y="4869000"/>
              <a:chExt cx="403200" cy="1338120"/>
            </a:xfrm>
          </p:grpSpPr>
          <p:sp>
            <p:nvSpPr>
              <p:cNvPr id="495" name=""/>
              <p:cNvSpPr/>
              <p:nvPr/>
            </p:nvSpPr>
            <p:spPr>
              <a:xfrm>
                <a:off x="5124600" y="6172200"/>
                <a:ext cx="403200" cy="349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124600" y="4869000"/>
                <a:ext cx="403200" cy="331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5192640" y="4927680"/>
                <a:ext cx="285840" cy="1220760"/>
                <a:chOff x="5192640" y="4927680"/>
                <a:chExt cx="285840" cy="12207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5192640" y="4927680"/>
                  <a:ext cx="285840" cy="12207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28480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346720" y="4952880"/>
                  <a:ext cx="3960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41008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222880" y="4952880"/>
                  <a:ext cx="363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3" name=""/>
            <p:cNvGrpSpPr/>
            <p:nvPr/>
          </p:nvGrpSpPr>
          <p:grpSpPr>
            <a:xfrm>
              <a:off x="7437600" y="4869000"/>
              <a:ext cx="404640" cy="1338120"/>
              <a:chOff x="7437600" y="4869000"/>
              <a:chExt cx="404640" cy="1338120"/>
            </a:xfrm>
          </p:grpSpPr>
          <p:sp>
            <p:nvSpPr>
              <p:cNvPr id="504" name=""/>
              <p:cNvSpPr/>
              <p:nvPr/>
            </p:nvSpPr>
            <p:spPr>
              <a:xfrm>
                <a:off x="7437600" y="6172200"/>
                <a:ext cx="404640" cy="349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437600" y="4869000"/>
                <a:ext cx="404640" cy="331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6" name=""/>
              <p:cNvGrpSpPr/>
              <p:nvPr/>
            </p:nvGrpSpPr>
            <p:grpSpPr>
              <a:xfrm>
                <a:off x="7504200" y="4927680"/>
                <a:ext cx="288720" cy="1220760"/>
                <a:chOff x="7504200" y="4927680"/>
                <a:chExt cx="288720" cy="12207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7504200" y="4927680"/>
                  <a:ext cx="288720" cy="12207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59780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659720" y="4952880"/>
                  <a:ext cx="3960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72308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535880" y="4952880"/>
                  <a:ext cx="363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 MT Extra Bold"/>
              </a:rPr>
              <a:t>INTELLECTUAL PROPERTY</a:t>
            </a:r>
            <a:endParaRPr b="1" lang="en-US" sz="36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TELLECTUAL PROPERTY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Intangible creations protected by law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RADE SECRET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Intellectual work or product belonging to business, not in public domain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OPYRIGHT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Statutory grant protecting intellectual property from copying by others for 28 year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dur="indefinite" fill="hold">
                      <p:stCondLst>
                        <p:cond delay="indefinite"/>
                      </p:stCondLst>
                      <p:childTnLst>
                        <p:par>
                          <p:cTn id="6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dur="indefinite" fill="hold">
                      <p:stCondLst>
                        <p:cond delay="indefinite"/>
                      </p:stCondLst>
                      <p:childTnLst>
                        <p:par>
                          <p:cTn id="6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0" dur="indefinite" fill="hold">
                      <p:stCondLst>
                        <p:cond delay="indefinite"/>
                      </p:stCondLst>
                      <p:childTnLst>
                        <p:par>
                          <p:cTn id="6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dur="indefinite" fill="hold">
                      <p:stCondLst>
                        <p:cond delay="indefinite"/>
                      </p:stCondLst>
                      <p:childTnLst>
                        <p:par>
                          <p:cTn id="6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"/>
          <p:cNvGrpSpPr/>
          <p:nvPr/>
        </p:nvGrpSpPr>
        <p:grpSpPr>
          <a:xfrm>
            <a:off x="4813200" y="3848040"/>
            <a:ext cx="3826080" cy="2679840"/>
            <a:chOff x="4813200" y="3848040"/>
            <a:chExt cx="3826080" cy="2679840"/>
          </a:xfrm>
        </p:grpSpPr>
        <p:sp>
          <p:nvSpPr>
            <p:cNvPr id="515" name=""/>
            <p:cNvSpPr/>
            <p:nvPr/>
          </p:nvSpPr>
          <p:spPr>
            <a:xfrm>
              <a:off x="5160960" y="4568760"/>
              <a:ext cx="3138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911840" y="3848040"/>
              <a:ext cx="3635280" cy="790560"/>
            </a:xfrm>
            <a:custGeom>
              <a:avLst/>
              <a:gdLst/>
              <a:ahLst/>
              <a:rect l="l" t="t" r="r" b="b"/>
              <a:pathLst>
                <a:path w="4579" h="996">
                  <a:moveTo>
                    <a:pt x="0" y="996"/>
                  </a:moveTo>
                  <a:lnTo>
                    <a:pt x="4579" y="996"/>
                  </a:lnTo>
                  <a:lnTo>
                    <a:pt x="2294" y="0"/>
                  </a:lnTo>
                  <a:lnTo>
                    <a:pt x="0" y="996"/>
                  </a:lnTo>
                  <a:close/>
                </a:path>
              </a:pathLst>
            </a:custGeom>
            <a:solidFill>
              <a:srgbClr val="c0c0c0"/>
            </a:solidFill>
            <a:ln w="11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80040" y="3902040"/>
              <a:ext cx="3110040" cy="666720"/>
            </a:xfrm>
            <a:custGeom>
              <a:avLst/>
              <a:gdLst/>
              <a:ahLst/>
              <a:rect l="l" t="t" r="r" b="b"/>
              <a:pathLst>
                <a:path w="3919" h="842">
                  <a:moveTo>
                    <a:pt x="0" y="842"/>
                  </a:moveTo>
                  <a:lnTo>
                    <a:pt x="3919" y="842"/>
                  </a:lnTo>
                  <a:lnTo>
                    <a:pt x="1965" y="0"/>
                  </a:lnTo>
                  <a:lnTo>
                    <a:pt x="0" y="842"/>
                  </a:lnTo>
                  <a:close/>
                </a:path>
              </a:pathLst>
            </a:custGeom>
            <a:solidFill>
              <a:srgbClr val="cecece"/>
            </a:solidFill>
            <a:ln w="11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92760" y="4702320"/>
              <a:ext cx="3692520" cy="36360"/>
            </a:xfrm>
            <a:prstGeom prst="rect">
              <a:avLst/>
            </a:prstGeom>
            <a:solidFill>
              <a:srgbClr val="c0c0c0"/>
            </a:solidFill>
            <a:ln w="11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946760" y="4789440"/>
              <a:ext cx="3557520" cy="47520"/>
            </a:xfrm>
            <a:prstGeom prst="rect">
              <a:avLst/>
            </a:prstGeom>
            <a:solidFill>
              <a:srgbClr val="c0c0c0"/>
            </a:solidFill>
            <a:ln w="11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4813200" y="6240600"/>
              <a:ext cx="3826080" cy="287280"/>
              <a:chOff x="4813200" y="6240600"/>
              <a:chExt cx="3826080" cy="287280"/>
            </a:xfrm>
          </p:grpSpPr>
          <p:sp>
            <p:nvSpPr>
              <p:cNvPr id="521" name=""/>
              <p:cNvSpPr/>
              <p:nvPr/>
            </p:nvSpPr>
            <p:spPr>
              <a:xfrm>
                <a:off x="5045040" y="6240600"/>
                <a:ext cx="3362400" cy="2844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813200" y="6507000"/>
                <a:ext cx="3826080" cy="2088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946760" y="6303960"/>
                <a:ext cx="3557520" cy="4608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892760" y="6383160"/>
                <a:ext cx="3666960" cy="5580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5587920" y="4869000"/>
              <a:ext cx="403200" cy="1338120"/>
              <a:chOff x="5587920" y="4869000"/>
              <a:chExt cx="403200" cy="1338120"/>
            </a:xfrm>
          </p:grpSpPr>
          <p:sp>
            <p:nvSpPr>
              <p:cNvPr id="526" name=""/>
              <p:cNvSpPr/>
              <p:nvPr/>
            </p:nvSpPr>
            <p:spPr>
              <a:xfrm>
                <a:off x="5587920" y="6172200"/>
                <a:ext cx="403200" cy="349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87920" y="4869000"/>
                <a:ext cx="403200" cy="331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8" name=""/>
              <p:cNvGrpSpPr/>
              <p:nvPr/>
            </p:nvGrpSpPr>
            <p:grpSpPr>
              <a:xfrm>
                <a:off x="5654520" y="4927680"/>
                <a:ext cx="287640" cy="1220760"/>
                <a:chOff x="5654520" y="4927680"/>
                <a:chExt cx="287640" cy="122076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5654520" y="4927680"/>
                  <a:ext cx="287640" cy="12207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748480" y="4952880"/>
                  <a:ext cx="3960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581184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587376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5686560" y="4952880"/>
                  <a:ext cx="363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4" name=""/>
            <p:cNvGrpSpPr/>
            <p:nvPr/>
          </p:nvGrpSpPr>
          <p:grpSpPr>
            <a:xfrm>
              <a:off x="6056280" y="4869000"/>
              <a:ext cx="403200" cy="1338120"/>
              <a:chOff x="6056280" y="4869000"/>
              <a:chExt cx="403200" cy="1338120"/>
            </a:xfrm>
          </p:grpSpPr>
          <p:sp>
            <p:nvSpPr>
              <p:cNvPr id="535" name=""/>
              <p:cNvSpPr/>
              <p:nvPr/>
            </p:nvSpPr>
            <p:spPr>
              <a:xfrm>
                <a:off x="6056280" y="6172200"/>
                <a:ext cx="403200" cy="349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56280" y="4869000"/>
                <a:ext cx="403200" cy="331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7" name=""/>
              <p:cNvGrpSpPr/>
              <p:nvPr/>
            </p:nvGrpSpPr>
            <p:grpSpPr>
              <a:xfrm>
                <a:off x="6122880" y="4927680"/>
                <a:ext cx="289080" cy="1220760"/>
                <a:chOff x="6122880" y="4927680"/>
                <a:chExt cx="289080" cy="122076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6122880" y="4927680"/>
                  <a:ext cx="289080" cy="12207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218280" y="4952880"/>
                  <a:ext cx="363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278400" y="4952880"/>
                  <a:ext cx="399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34212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15456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3" name=""/>
            <p:cNvGrpSpPr/>
            <p:nvPr/>
          </p:nvGrpSpPr>
          <p:grpSpPr>
            <a:xfrm>
              <a:off x="6512040" y="4869000"/>
              <a:ext cx="401400" cy="1338120"/>
              <a:chOff x="6512040" y="4869000"/>
              <a:chExt cx="401400" cy="1338120"/>
            </a:xfrm>
          </p:grpSpPr>
          <p:sp>
            <p:nvSpPr>
              <p:cNvPr id="544" name=""/>
              <p:cNvSpPr/>
              <p:nvPr/>
            </p:nvSpPr>
            <p:spPr>
              <a:xfrm>
                <a:off x="6512040" y="6172200"/>
                <a:ext cx="401400" cy="349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512040" y="4869000"/>
                <a:ext cx="401400" cy="331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6576840" y="4927680"/>
                <a:ext cx="287640" cy="1220760"/>
                <a:chOff x="6576840" y="4927680"/>
                <a:chExt cx="287640" cy="122076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6576840" y="4927680"/>
                  <a:ext cx="287640" cy="12207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670800" y="4952880"/>
                  <a:ext cx="3780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734160" y="4952880"/>
                  <a:ext cx="363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79608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60888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2" name=""/>
            <p:cNvGrpSpPr/>
            <p:nvPr/>
          </p:nvGrpSpPr>
          <p:grpSpPr>
            <a:xfrm>
              <a:off x="6969240" y="4869000"/>
              <a:ext cx="403200" cy="1338120"/>
              <a:chOff x="6969240" y="4869000"/>
              <a:chExt cx="403200" cy="1338120"/>
            </a:xfrm>
          </p:grpSpPr>
          <p:sp>
            <p:nvSpPr>
              <p:cNvPr id="553" name=""/>
              <p:cNvSpPr/>
              <p:nvPr/>
            </p:nvSpPr>
            <p:spPr>
              <a:xfrm>
                <a:off x="6969240" y="6172200"/>
                <a:ext cx="403200" cy="349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969240" y="4869000"/>
                <a:ext cx="403200" cy="331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5" name=""/>
              <p:cNvGrpSpPr/>
              <p:nvPr/>
            </p:nvGrpSpPr>
            <p:grpSpPr>
              <a:xfrm>
                <a:off x="7035840" y="4927680"/>
                <a:ext cx="288720" cy="1220760"/>
                <a:chOff x="7035840" y="4927680"/>
                <a:chExt cx="288720" cy="122076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7035840" y="4927680"/>
                  <a:ext cx="288720" cy="12207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129440" y="4952880"/>
                  <a:ext cx="3960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192800" y="4952880"/>
                  <a:ext cx="3672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25472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06752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1" name=""/>
            <p:cNvGrpSpPr/>
            <p:nvPr/>
          </p:nvGrpSpPr>
          <p:grpSpPr>
            <a:xfrm>
              <a:off x="7896240" y="4869000"/>
              <a:ext cx="404640" cy="1338120"/>
              <a:chOff x="7896240" y="4869000"/>
              <a:chExt cx="404640" cy="1338120"/>
            </a:xfrm>
          </p:grpSpPr>
          <p:sp>
            <p:nvSpPr>
              <p:cNvPr id="562" name=""/>
              <p:cNvSpPr/>
              <p:nvPr/>
            </p:nvSpPr>
            <p:spPr>
              <a:xfrm>
                <a:off x="7896240" y="6172200"/>
                <a:ext cx="404640" cy="349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896240" y="4869000"/>
                <a:ext cx="404640" cy="331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7964640" y="4927680"/>
                <a:ext cx="287280" cy="1220760"/>
                <a:chOff x="7964640" y="4927680"/>
                <a:chExt cx="287280" cy="122076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7964640" y="4927680"/>
                  <a:ext cx="287280" cy="12207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805824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812016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818208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99452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0" name=""/>
            <p:cNvGrpSpPr/>
            <p:nvPr/>
          </p:nvGrpSpPr>
          <p:grpSpPr>
            <a:xfrm>
              <a:off x="5124600" y="4869000"/>
              <a:ext cx="403200" cy="1338120"/>
              <a:chOff x="5124600" y="4869000"/>
              <a:chExt cx="403200" cy="1338120"/>
            </a:xfrm>
          </p:grpSpPr>
          <p:sp>
            <p:nvSpPr>
              <p:cNvPr id="571" name=""/>
              <p:cNvSpPr/>
              <p:nvPr/>
            </p:nvSpPr>
            <p:spPr>
              <a:xfrm>
                <a:off x="5124600" y="6172200"/>
                <a:ext cx="403200" cy="349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124600" y="4869000"/>
                <a:ext cx="403200" cy="331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5192640" y="4927680"/>
                <a:ext cx="285840" cy="1220760"/>
                <a:chOff x="5192640" y="4927680"/>
                <a:chExt cx="285840" cy="122076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5192640" y="4927680"/>
                  <a:ext cx="285840" cy="12207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28480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5346720" y="4952880"/>
                  <a:ext cx="3960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41008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222880" y="4952880"/>
                  <a:ext cx="363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9" name=""/>
            <p:cNvGrpSpPr/>
            <p:nvPr/>
          </p:nvGrpSpPr>
          <p:grpSpPr>
            <a:xfrm>
              <a:off x="7437600" y="4869000"/>
              <a:ext cx="404640" cy="1338120"/>
              <a:chOff x="7437600" y="4869000"/>
              <a:chExt cx="404640" cy="1338120"/>
            </a:xfrm>
          </p:grpSpPr>
          <p:sp>
            <p:nvSpPr>
              <p:cNvPr id="580" name=""/>
              <p:cNvSpPr/>
              <p:nvPr/>
            </p:nvSpPr>
            <p:spPr>
              <a:xfrm>
                <a:off x="7437600" y="6172200"/>
                <a:ext cx="404640" cy="349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437600" y="4869000"/>
                <a:ext cx="404640" cy="331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2" name=""/>
              <p:cNvGrpSpPr/>
              <p:nvPr/>
            </p:nvGrpSpPr>
            <p:grpSpPr>
              <a:xfrm>
                <a:off x="7504200" y="4927680"/>
                <a:ext cx="288720" cy="1220760"/>
                <a:chOff x="7504200" y="4927680"/>
                <a:chExt cx="288720" cy="122076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7504200" y="4927680"/>
                  <a:ext cx="288720" cy="12207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59780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659720" y="4952880"/>
                  <a:ext cx="3960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72308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535880" y="4952880"/>
                  <a:ext cx="363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 MT Extra Bold"/>
              </a:rPr>
              <a:t>INTELLECTUAL PROPERTY</a:t>
            </a:r>
            <a:endParaRPr b="1" lang="en-US" sz="36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RADE MARK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Legally registered mark, device, or name to distinguish one’s good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ATENT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Legal document granting owner exclusive monopoly on an invention for 17 year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dur="indefinite" fill="hold">
                      <p:stCondLst>
                        <p:cond delay="indefinite"/>
                      </p:stCondLst>
                      <p:childTnLst>
                        <p:par>
                          <p:cTn id="6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dur="indefinite" fill="hold">
                      <p:stCondLst>
                        <p:cond delay="indefinite"/>
                      </p:stCondLst>
                      <p:childTnLst>
                        <p:par>
                          <p:cTn id="6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7" dur="indefinite" fill="hold">
                      <p:stCondLst>
                        <p:cond delay="indefinite"/>
                      </p:stCondLst>
                      <p:childTnLst>
                        <p:par>
                          <p:cTn id="6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THICAL ISSUES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When is software  or service ready for release?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OCIAL ISSUES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Can people trust quality of software, services, data?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OLITICAL ISSUES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Should congress or industry develop standards for software, hardware, data quality?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870120" y="0"/>
            <a:ext cx="1341360" cy="133020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2"/>
          <p:cNvSpPr>
            <a:spLocks noGrp="1"/>
          </p:cNvSpPr>
          <p:nvPr>
            <p:ph type="title"/>
          </p:nvPr>
        </p:nvSpPr>
        <p:spPr>
          <a:xfrm>
            <a:off x="2390760" y="404280"/>
            <a:ext cx="6076800" cy="15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 MT Extra Bold"/>
              </a:rPr>
              <a:t>SYSTEM QUALITY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 MT Extra Bold"/>
              </a:rPr>
              <a:t>DATA QUALITY &amp;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 MT Extra Bold"/>
              </a:rPr>
              <a:t>SYSTEM ERRORS</a:t>
            </a:r>
            <a:endParaRPr b="1" lang="en-US" sz="3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p:transition>
    <p:strips dir="ld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dur="indefinite" fill="hold">
                      <p:stCondLst>
                        <p:cond delay="0"/>
                      </p:stCondLst>
                      <p:childTnLst>
                        <p:par>
                          <p:cTn id="6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dur="indefinite" fill="hold">
                      <p:stCondLst>
                        <p:cond delay="indefinite"/>
                      </p:stCondLst>
                      <p:childTnLst>
                        <p:par>
                          <p:cTn id="6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dur="indefinite" fill="hold">
                      <p:stCondLst>
                        <p:cond delay="indefinite"/>
                      </p:stCondLst>
                      <p:childTnLst>
                        <p:par>
                          <p:cTn id="6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dur="indefinite" fill="hold">
                      <p:stCondLst>
                        <p:cond delay="indefinite"/>
                      </p:stCondLst>
                      <p:childTnLst>
                        <p:par>
                          <p:cTn id="6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dur="indefinite" fill="hold">
                      <p:stCondLst>
                        <p:cond delay="indefinite"/>
                      </p:stCondLst>
                      <p:childTnLst>
                        <p:par>
                          <p:cTn id="7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 MT Extra Bold"/>
              </a:rPr>
              <a:t>LEARNING OBJECTIVES</a:t>
            </a: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NALYZE ETHICAL, SOCIAL, POLITICAL ISSUES RAISED BY INFORMATION SYSTEM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IDENTIFY, APPLY MORAL DIMENSIONS OF INFORMATION SOCIETY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019920" y="4495680"/>
          <a:ext cx="2276280" cy="21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4495680"/>
                    <a:ext cx="227628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dur="indefinite" fill="hold">
                      <p:stCondLst>
                        <p:cond delay="0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 MT Extra Bold"/>
              </a:rPr>
              <a:t>QUALITY OF LIFE</a:t>
            </a: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ENTRALIZATION VS. DECENTRALIZATION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APID CHANGE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Reduced response time to competition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MAINTAINING BOUNDARIES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Family, work, leisure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PENDENCE AND VULNERABILITY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OMPUTER CRIME &amp; ABUSE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7140600" y="4727520"/>
          <a:ext cx="2003400" cy="21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0600" y="4727520"/>
                    <a:ext cx="200340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dur="indefinite" fill="hold">
                      <p:stCondLst>
                        <p:cond delay="0"/>
                      </p:stCondLst>
                      <p:childTnLst>
                        <p:par>
                          <p:cTn id="7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 fill="hold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dur="indefinite" fill="hold">
                      <p:stCondLst>
                        <p:cond delay="indefinite"/>
                      </p:stCondLst>
                      <p:childTnLst>
                        <p:par>
                          <p:cTn id="7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dur="indefinite" fill="hold">
                      <p:stCondLst>
                        <p:cond delay="indefinite"/>
                      </p:stCondLst>
                      <p:childTnLst>
                        <p:par>
                          <p:cTn id="7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6" dur="indefinite" fill="hold">
                      <p:stCondLst>
                        <p:cond delay="indefinite"/>
                      </p:stCondLst>
                      <p:childTnLst>
                        <p:par>
                          <p:cTn id="7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dur="indefinite" fill="hold">
                      <p:stCondLst>
                        <p:cond delay="indefinite"/>
                      </p:stCondLst>
                      <p:childTnLst>
                        <p:par>
                          <p:cTn id="7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dur="indefinite" fill="hold">
                      <p:stCondLst>
                        <p:cond delay="indefinite"/>
                      </p:stCondLst>
                      <p:childTnLst>
                        <p:par>
                          <p:cTn id="7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dur="indefinite" fill="hold">
                      <p:stCondLst>
                        <p:cond delay="indefinite"/>
                      </p:stCondLst>
                      <p:childTnLst>
                        <p:par>
                          <p:cTn id="7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 MT Extra Bold"/>
              </a:rPr>
              <a:t>QUALITY OF LIFE</a:t>
            </a: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EMPLOYMENT: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Trickle-down technology; reengineering job los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EQUITY &amp; ACCESS: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Increasing racial &amp; social class cleavage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HEALTH RISKS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7140600" y="4727520"/>
          <a:ext cx="2003400" cy="21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0600" y="4727520"/>
                    <a:ext cx="200340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dur="indefinite" fill="hold">
                      <p:stCondLst>
                        <p:cond delay="indefinite"/>
                      </p:stCondLst>
                      <p:childTnLst>
                        <p:par>
                          <p:cTn id="7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dur="indefinite" fill="hold">
                      <p:stCondLst>
                        <p:cond delay="indefinite"/>
                      </p:stCondLst>
                      <p:childTnLst>
                        <p:par>
                          <p:cTn id="7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5" dur="indefinite" fill="hold">
                      <p:stCondLst>
                        <p:cond delay="indefinite"/>
                      </p:stCondLst>
                      <p:childTnLst>
                        <p:par>
                          <p:cTn id="7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dur="indefinite" fill="hold">
                      <p:stCondLst>
                        <p:cond delay="indefinite"/>
                      </p:stCondLst>
                      <p:childTnLst>
                        <p:par>
                          <p:cTn id="7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 MT Extra Bold"/>
              </a:rPr>
              <a:t>QUALITY OF LIFE</a:t>
            </a: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HEALTH RISKS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REPETITIVE STRESS INJURY (RSI)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ARPAL TUNNEL SYNDROME (CTS)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MPUTER VISION SYNDROME (CVS)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ECHNOSTRESS: Irritation, hostility, impatience, enervation, fear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VDT RADIATION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7140600" y="4727520"/>
          <a:ext cx="2003400" cy="21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0600" y="4727520"/>
                    <a:ext cx="200340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dur="indefinite" fill="hold">
                      <p:stCondLst>
                        <p:cond delay="indefinite"/>
                      </p:stCondLst>
                      <p:childTnLst>
                        <p:par>
                          <p:cTn id="7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dur="indefinite" fill="hold">
                      <p:stCondLst>
                        <p:cond delay="indefinite"/>
                      </p:stCondLst>
                      <p:childTnLst>
                        <p:par>
                          <p:cTn id="7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2" dur="indefinite" fill="hold">
                      <p:stCondLst>
                        <p:cond delay="indefinite"/>
                      </p:stCondLst>
                      <p:childTnLst>
                        <p:par>
                          <p:cTn id="7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dur="indefinite" fill="hold">
                      <p:stCondLst>
                        <p:cond delay="indefinite"/>
                      </p:stCondLst>
                      <p:childTnLst>
                        <p:par>
                          <p:cTn id="7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dur="indefinite" fill="hold">
                      <p:stCondLst>
                        <p:cond delay="indefinite"/>
                      </p:stCondLst>
                      <p:childTnLst>
                        <p:par>
                          <p:cTn id="8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dur="indefinite" fill="hold">
                      <p:stCondLst>
                        <p:cond delay="indefinite"/>
                      </p:stCondLst>
                      <p:childTnLst>
                        <p:par>
                          <p:cTn id="8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dur="indefinite" fill="hold">
                      <p:stCondLst>
                        <p:cond delay="indefinite"/>
                      </p:stCondLst>
                      <p:childTnLst>
                        <p:par>
                          <p:cTn id="8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5" name=""/>
          <p:cNvGraphicFramePr/>
          <p:nvPr/>
        </p:nvGraphicFramePr>
        <p:xfrm>
          <a:off x="0" y="0"/>
          <a:ext cx="1558800" cy="16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55880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716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 MT Extra Bold"/>
              </a:rPr>
              <a:t>INTERNET CRIME &amp; ABUSE</a:t>
            </a:r>
            <a:endParaRPr b="1" lang="en-US" sz="3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HACKING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Access to proprietary data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AMMING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Tie up host computer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MALICIOUS SOFTWARE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Viruses disable computer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NIFFING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Intercept data passing through system, e.g. credit card data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POOFING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Fraudulent misrepresentation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dur="indefinite" fill="hold">
                      <p:stCondLst>
                        <p:cond delay="0"/>
                      </p:stCondLst>
                      <p:childTnLst>
                        <p:par>
                          <p:cTn id="8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dur="indefinite" fill="hold">
                      <p:stCondLst>
                        <p:cond delay="indefinite"/>
                      </p:stCondLst>
                      <p:childTnLst>
                        <p:par>
                          <p:cTn id="8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dur="indefinite" fill="hold">
                      <p:stCondLst>
                        <p:cond delay="indefinite"/>
                      </p:stCondLst>
                      <p:childTnLst>
                        <p:par>
                          <p:cTn id="8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3" dur="indefinite" fill="hold">
                      <p:stCondLst>
                        <p:cond delay="indefinite"/>
                      </p:stCondLst>
                      <p:childTnLst>
                        <p:par>
                          <p:cTn id="8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dur="indefinite" fill="hold">
                      <p:stCondLst>
                        <p:cond delay="indefinite"/>
                      </p:stCondLst>
                      <p:childTnLst>
                        <p:par>
                          <p:cTn id="8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dur="indefinite" fill="hold">
                      <p:stCondLst>
                        <p:cond delay="indefinite"/>
                      </p:stCondLst>
                      <p:childTnLst>
                        <p:par>
                          <p:cTn id="8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dur="indefinite" fill="hold">
                      <p:stCondLst>
                        <p:cond delay="indefinite"/>
                      </p:stCondLst>
                      <p:childTnLst>
                        <p:par>
                          <p:cTn id="8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"/>
          <p:cNvGrpSpPr/>
          <p:nvPr/>
        </p:nvGrpSpPr>
        <p:grpSpPr>
          <a:xfrm>
            <a:off x="7068960" y="4241880"/>
            <a:ext cx="2075040" cy="2620800"/>
            <a:chOff x="7068960" y="4241880"/>
            <a:chExt cx="2075040" cy="2620800"/>
          </a:xfrm>
        </p:grpSpPr>
        <p:sp>
          <p:nvSpPr>
            <p:cNvPr id="610" name=""/>
            <p:cNvSpPr/>
            <p:nvPr/>
          </p:nvSpPr>
          <p:spPr>
            <a:xfrm>
              <a:off x="7068960" y="4241880"/>
              <a:ext cx="2075040" cy="2620800"/>
            </a:xfrm>
            <a:prstGeom prst="rect">
              <a:avLst/>
            </a:prstGeom>
            <a:solidFill>
              <a:srgbClr val="fff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068960" y="4241880"/>
              <a:ext cx="2075040" cy="26208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50000">
                  <a:srgbClr val="5e755e"/>
                </a:gs>
                <a:gs pos="100000">
                  <a:srgbClr val="ccff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32840" y="4521240"/>
              <a:ext cx="1547640" cy="639720"/>
            </a:xfrm>
            <a:custGeom>
              <a:avLst/>
              <a:gdLst/>
              <a:ahLst/>
              <a:rect l="l" t="t" r="r" b="b"/>
              <a:pathLst>
                <a:path w="2923" h="1208">
                  <a:moveTo>
                    <a:pt x="2463" y="902"/>
                  </a:moveTo>
                  <a:lnTo>
                    <a:pt x="2920" y="902"/>
                  </a:lnTo>
                  <a:lnTo>
                    <a:pt x="2920" y="1208"/>
                  </a:lnTo>
                  <a:lnTo>
                    <a:pt x="0" y="1208"/>
                  </a:lnTo>
                  <a:lnTo>
                    <a:pt x="0" y="902"/>
                  </a:lnTo>
                  <a:lnTo>
                    <a:pt x="427" y="902"/>
                  </a:lnTo>
                  <a:lnTo>
                    <a:pt x="427" y="609"/>
                  </a:lnTo>
                  <a:lnTo>
                    <a:pt x="3" y="609"/>
                  </a:lnTo>
                  <a:lnTo>
                    <a:pt x="3" y="305"/>
                  </a:lnTo>
                  <a:lnTo>
                    <a:pt x="417" y="305"/>
                  </a:lnTo>
                  <a:lnTo>
                    <a:pt x="417" y="0"/>
                  </a:lnTo>
                  <a:lnTo>
                    <a:pt x="788" y="0"/>
                  </a:lnTo>
                  <a:lnTo>
                    <a:pt x="788" y="305"/>
                  </a:lnTo>
                  <a:lnTo>
                    <a:pt x="2094" y="305"/>
                  </a:lnTo>
                  <a:lnTo>
                    <a:pt x="2094" y="29"/>
                  </a:lnTo>
                  <a:lnTo>
                    <a:pt x="2466" y="29"/>
                  </a:lnTo>
                  <a:lnTo>
                    <a:pt x="2466" y="305"/>
                  </a:lnTo>
                  <a:lnTo>
                    <a:pt x="2923" y="305"/>
                  </a:lnTo>
                  <a:lnTo>
                    <a:pt x="2923" y="609"/>
                  </a:lnTo>
                  <a:lnTo>
                    <a:pt x="2463" y="609"/>
                  </a:lnTo>
                  <a:lnTo>
                    <a:pt x="2463" y="902"/>
                  </a:lnTo>
                  <a:close/>
                  <a:moveTo>
                    <a:pt x="2091" y="609"/>
                  </a:moveTo>
                  <a:lnTo>
                    <a:pt x="800" y="609"/>
                  </a:lnTo>
                  <a:lnTo>
                    <a:pt x="800" y="902"/>
                  </a:lnTo>
                  <a:lnTo>
                    <a:pt x="2091" y="902"/>
                  </a:lnTo>
                  <a:lnTo>
                    <a:pt x="2091" y="609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332840" y="4521240"/>
              <a:ext cx="1547640" cy="639720"/>
            </a:xfrm>
            <a:custGeom>
              <a:avLst/>
              <a:gdLst/>
              <a:ahLst/>
              <a:rect l="l" t="t" r="r" b="b"/>
              <a:pathLst>
                <a:path w="2923" h="1208">
                  <a:moveTo>
                    <a:pt x="2463" y="902"/>
                  </a:moveTo>
                  <a:lnTo>
                    <a:pt x="2920" y="902"/>
                  </a:lnTo>
                  <a:lnTo>
                    <a:pt x="2920" y="1208"/>
                  </a:lnTo>
                  <a:lnTo>
                    <a:pt x="0" y="1208"/>
                  </a:lnTo>
                  <a:lnTo>
                    <a:pt x="0" y="902"/>
                  </a:lnTo>
                  <a:lnTo>
                    <a:pt x="427" y="902"/>
                  </a:lnTo>
                  <a:lnTo>
                    <a:pt x="427" y="609"/>
                  </a:lnTo>
                  <a:lnTo>
                    <a:pt x="3" y="609"/>
                  </a:lnTo>
                  <a:lnTo>
                    <a:pt x="3" y="305"/>
                  </a:lnTo>
                  <a:lnTo>
                    <a:pt x="417" y="305"/>
                  </a:lnTo>
                  <a:lnTo>
                    <a:pt x="417" y="0"/>
                  </a:lnTo>
                  <a:lnTo>
                    <a:pt x="788" y="0"/>
                  </a:lnTo>
                  <a:lnTo>
                    <a:pt x="788" y="305"/>
                  </a:lnTo>
                  <a:lnTo>
                    <a:pt x="2094" y="305"/>
                  </a:lnTo>
                  <a:lnTo>
                    <a:pt x="2094" y="29"/>
                  </a:lnTo>
                  <a:lnTo>
                    <a:pt x="2466" y="29"/>
                  </a:lnTo>
                  <a:lnTo>
                    <a:pt x="2466" y="305"/>
                  </a:lnTo>
                  <a:lnTo>
                    <a:pt x="2923" y="305"/>
                  </a:lnTo>
                  <a:lnTo>
                    <a:pt x="2923" y="609"/>
                  </a:lnTo>
                  <a:lnTo>
                    <a:pt x="2463" y="609"/>
                  </a:lnTo>
                  <a:lnTo>
                    <a:pt x="2463" y="9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756560" y="4843440"/>
              <a:ext cx="682560" cy="15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04040" y="5280120"/>
              <a:ext cx="1582920" cy="1347840"/>
            </a:xfrm>
            <a:custGeom>
              <a:avLst/>
              <a:gdLst/>
              <a:ahLst/>
              <a:rect l="l" t="t" r="r" b="b"/>
              <a:pathLst>
                <a:path w="2990" h="2548">
                  <a:moveTo>
                    <a:pt x="1925" y="1999"/>
                  </a:moveTo>
                  <a:lnTo>
                    <a:pt x="2697" y="1999"/>
                  </a:lnTo>
                  <a:lnTo>
                    <a:pt x="2697" y="2276"/>
                  </a:lnTo>
                  <a:lnTo>
                    <a:pt x="1925" y="2276"/>
                  </a:lnTo>
                  <a:lnTo>
                    <a:pt x="1925" y="1999"/>
                  </a:lnTo>
                  <a:close/>
                  <a:moveTo>
                    <a:pt x="287" y="1996"/>
                  </a:moveTo>
                  <a:lnTo>
                    <a:pt x="1059" y="1996"/>
                  </a:lnTo>
                  <a:lnTo>
                    <a:pt x="1059" y="2275"/>
                  </a:lnTo>
                  <a:lnTo>
                    <a:pt x="287" y="2275"/>
                  </a:lnTo>
                  <a:lnTo>
                    <a:pt x="287" y="1996"/>
                  </a:lnTo>
                  <a:close/>
                  <a:moveTo>
                    <a:pt x="1913" y="276"/>
                  </a:moveTo>
                  <a:lnTo>
                    <a:pt x="2685" y="276"/>
                  </a:lnTo>
                  <a:lnTo>
                    <a:pt x="2685" y="550"/>
                  </a:lnTo>
                  <a:lnTo>
                    <a:pt x="1913" y="550"/>
                  </a:lnTo>
                  <a:lnTo>
                    <a:pt x="1913" y="276"/>
                  </a:lnTo>
                  <a:close/>
                  <a:moveTo>
                    <a:pt x="289" y="274"/>
                  </a:moveTo>
                  <a:lnTo>
                    <a:pt x="1062" y="274"/>
                  </a:lnTo>
                  <a:lnTo>
                    <a:pt x="1062" y="549"/>
                  </a:lnTo>
                  <a:lnTo>
                    <a:pt x="289" y="549"/>
                  </a:lnTo>
                  <a:lnTo>
                    <a:pt x="289" y="274"/>
                  </a:lnTo>
                  <a:close/>
                  <a:moveTo>
                    <a:pt x="507" y="1677"/>
                  </a:moveTo>
                  <a:lnTo>
                    <a:pt x="507" y="1409"/>
                  </a:lnTo>
                  <a:lnTo>
                    <a:pt x="13" y="1409"/>
                  </a:lnTo>
                  <a:lnTo>
                    <a:pt x="13" y="1118"/>
                  </a:lnTo>
                  <a:lnTo>
                    <a:pt x="510" y="1118"/>
                  </a:lnTo>
                  <a:lnTo>
                    <a:pt x="510" y="841"/>
                  </a:lnTo>
                  <a:lnTo>
                    <a:pt x="0" y="841"/>
                  </a:lnTo>
                  <a:lnTo>
                    <a:pt x="0" y="10"/>
                  </a:lnTo>
                  <a:lnTo>
                    <a:pt x="1338" y="10"/>
                  </a:lnTo>
                  <a:lnTo>
                    <a:pt x="1338" y="841"/>
                  </a:lnTo>
                  <a:lnTo>
                    <a:pt x="841" y="841"/>
                  </a:lnTo>
                  <a:lnTo>
                    <a:pt x="841" y="1118"/>
                  </a:lnTo>
                  <a:lnTo>
                    <a:pt x="2148" y="1118"/>
                  </a:lnTo>
                  <a:lnTo>
                    <a:pt x="2148" y="829"/>
                  </a:lnTo>
                  <a:lnTo>
                    <a:pt x="1651" y="829"/>
                  </a:lnTo>
                  <a:lnTo>
                    <a:pt x="1651" y="0"/>
                  </a:lnTo>
                  <a:lnTo>
                    <a:pt x="2989" y="0"/>
                  </a:lnTo>
                  <a:lnTo>
                    <a:pt x="2989" y="829"/>
                  </a:lnTo>
                  <a:lnTo>
                    <a:pt x="2479" y="829"/>
                  </a:lnTo>
                  <a:lnTo>
                    <a:pt x="2479" y="1118"/>
                  </a:lnTo>
                  <a:lnTo>
                    <a:pt x="2990" y="1118"/>
                  </a:lnTo>
                  <a:lnTo>
                    <a:pt x="2990" y="1409"/>
                  </a:lnTo>
                  <a:lnTo>
                    <a:pt x="2476" y="1409"/>
                  </a:lnTo>
                  <a:lnTo>
                    <a:pt x="2476" y="1679"/>
                  </a:lnTo>
                  <a:lnTo>
                    <a:pt x="2987" y="1679"/>
                  </a:lnTo>
                  <a:lnTo>
                    <a:pt x="2987" y="2548"/>
                  </a:lnTo>
                  <a:lnTo>
                    <a:pt x="1650" y="2548"/>
                  </a:lnTo>
                  <a:lnTo>
                    <a:pt x="1650" y="1679"/>
                  </a:lnTo>
                  <a:lnTo>
                    <a:pt x="2145" y="1679"/>
                  </a:lnTo>
                  <a:lnTo>
                    <a:pt x="2145" y="1409"/>
                  </a:lnTo>
                  <a:lnTo>
                    <a:pt x="838" y="1409"/>
                  </a:lnTo>
                  <a:lnTo>
                    <a:pt x="838" y="1677"/>
                  </a:lnTo>
                  <a:lnTo>
                    <a:pt x="1324" y="1677"/>
                  </a:lnTo>
                  <a:lnTo>
                    <a:pt x="1324" y="2548"/>
                  </a:lnTo>
                  <a:lnTo>
                    <a:pt x="27" y="2548"/>
                  </a:lnTo>
                  <a:lnTo>
                    <a:pt x="27" y="1677"/>
                  </a:lnTo>
                  <a:lnTo>
                    <a:pt x="507" y="1677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323200" y="6337440"/>
              <a:ext cx="407880" cy="14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56320" y="6335640"/>
              <a:ext cx="408240" cy="14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317080" y="5425920"/>
              <a:ext cx="407880" cy="14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58120" y="5424480"/>
              <a:ext cx="407880" cy="14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304040" y="5280120"/>
              <a:ext cx="1582920" cy="1347840"/>
            </a:xfrm>
            <a:custGeom>
              <a:avLst/>
              <a:gdLst/>
              <a:ahLst/>
              <a:rect l="l" t="t" r="r" b="b"/>
              <a:pathLst>
                <a:path w="2990" h="2548">
                  <a:moveTo>
                    <a:pt x="507" y="1677"/>
                  </a:moveTo>
                  <a:lnTo>
                    <a:pt x="507" y="1409"/>
                  </a:lnTo>
                  <a:lnTo>
                    <a:pt x="13" y="1409"/>
                  </a:lnTo>
                  <a:lnTo>
                    <a:pt x="13" y="1118"/>
                  </a:lnTo>
                  <a:lnTo>
                    <a:pt x="510" y="1118"/>
                  </a:lnTo>
                  <a:lnTo>
                    <a:pt x="510" y="841"/>
                  </a:lnTo>
                  <a:lnTo>
                    <a:pt x="0" y="841"/>
                  </a:lnTo>
                  <a:lnTo>
                    <a:pt x="0" y="10"/>
                  </a:lnTo>
                  <a:lnTo>
                    <a:pt x="1338" y="10"/>
                  </a:lnTo>
                  <a:lnTo>
                    <a:pt x="1338" y="841"/>
                  </a:lnTo>
                  <a:lnTo>
                    <a:pt x="841" y="841"/>
                  </a:lnTo>
                  <a:lnTo>
                    <a:pt x="841" y="1118"/>
                  </a:lnTo>
                  <a:lnTo>
                    <a:pt x="2148" y="1118"/>
                  </a:lnTo>
                  <a:lnTo>
                    <a:pt x="2148" y="829"/>
                  </a:lnTo>
                  <a:lnTo>
                    <a:pt x="1651" y="829"/>
                  </a:lnTo>
                  <a:lnTo>
                    <a:pt x="1651" y="0"/>
                  </a:lnTo>
                  <a:lnTo>
                    <a:pt x="2989" y="0"/>
                  </a:lnTo>
                  <a:lnTo>
                    <a:pt x="2989" y="829"/>
                  </a:lnTo>
                  <a:lnTo>
                    <a:pt x="2479" y="829"/>
                  </a:lnTo>
                  <a:lnTo>
                    <a:pt x="2479" y="1118"/>
                  </a:lnTo>
                  <a:lnTo>
                    <a:pt x="2990" y="1118"/>
                  </a:lnTo>
                  <a:lnTo>
                    <a:pt x="2990" y="1409"/>
                  </a:lnTo>
                  <a:lnTo>
                    <a:pt x="2476" y="1409"/>
                  </a:lnTo>
                  <a:lnTo>
                    <a:pt x="2476" y="1679"/>
                  </a:lnTo>
                  <a:lnTo>
                    <a:pt x="2987" y="1679"/>
                  </a:lnTo>
                  <a:lnTo>
                    <a:pt x="2987" y="2548"/>
                  </a:lnTo>
                  <a:lnTo>
                    <a:pt x="1650" y="2548"/>
                  </a:lnTo>
                  <a:lnTo>
                    <a:pt x="1650" y="1679"/>
                  </a:lnTo>
                  <a:lnTo>
                    <a:pt x="2145" y="1679"/>
                  </a:lnTo>
                  <a:lnTo>
                    <a:pt x="2145" y="1409"/>
                  </a:lnTo>
                  <a:lnTo>
                    <a:pt x="838" y="1409"/>
                  </a:lnTo>
                  <a:lnTo>
                    <a:pt x="838" y="1677"/>
                  </a:lnTo>
                  <a:lnTo>
                    <a:pt x="1324" y="1677"/>
                  </a:lnTo>
                  <a:lnTo>
                    <a:pt x="1324" y="2548"/>
                  </a:lnTo>
                  <a:lnTo>
                    <a:pt x="27" y="2548"/>
                  </a:lnTo>
                  <a:lnTo>
                    <a:pt x="27" y="1677"/>
                  </a:lnTo>
                  <a:lnTo>
                    <a:pt x="507" y="167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 MT Extra Bold"/>
              </a:rPr>
              <a:t>MANAGEMENT ACTIONS: A CORPORATE CODE OF ETHICS</a:t>
            </a:r>
            <a:endParaRPr b="1" lang="en-US" sz="3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INFORMATION RIGHTS &amp; OBLIGATION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PROPERTY RIGHTS &amp; OBLIGATION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CCOUNTABILITY &amp; CONTRO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YSTEM QUALITY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UALITY OF LIFE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dur="indefinite" fill="hold">
                      <p:stCondLst>
                        <p:cond delay="0"/>
                      </p:stCondLst>
                      <p:childTnLst>
                        <p:par>
                          <p:cTn id="8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dur="indefinite" fill="hold">
                      <p:stCondLst>
                        <p:cond delay="indefinite"/>
                      </p:stCondLst>
                      <p:childTnLst>
                        <p:par>
                          <p:cTn id="8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dur="indefinite" fill="hold">
                      <p:stCondLst>
                        <p:cond delay="indefinite"/>
                      </p:stCondLst>
                      <p:childTnLst>
                        <p:par>
                          <p:cTn id="8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8" dur="indefinite" fill="hold">
                      <p:stCondLst>
                        <p:cond delay="indefinite"/>
                      </p:stCondLst>
                      <p:childTnLst>
                        <p:par>
                          <p:cTn id="8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dur="indefinite" fill="hold">
                      <p:stCondLst>
                        <p:cond delay="indefinite"/>
                      </p:stCondLst>
                      <p:childTnLst>
                        <p:par>
                          <p:cTn id="8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dur="indefinite" fill="hold">
                      <p:stCondLst>
                        <p:cond delay="indefinite"/>
                      </p:stCondLst>
                      <p:childTnLst>
                        <p:par>
                          <p:cTn id="9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dur="indefinite" fill="hold">
                      <p:stCondLst>
                        <p:cond delay="indefinite"/>
                      </p:stCondLst>
                      <p:childTnLst>
                        <p:par>
                          <p:cTn id="9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"/>
          <p:cNvGrpSpPr/>
          <p:nvPr/>
        </p:nvGrpSpPr>
        <p:grpSpPr>
          <a:xfrm>
            <a:off x="0" y="0"/>
            <a:ext cx="9144000" cy="2619360"/>
            <a:chOff x="0" y="0"/>
            <a:chExt cx="9144000" cy="2619360"/>
          </a:xfrm>
        </p:grpSpPr>
        <p:graphicFrame>
          <p:nvGraphicFramePr>
            <p:cNvPr id="624" name=""/>
            <p:cNvGraphicFramePr/>
            <p:nvPr/>
          </p:nvGraphicFramePr>
          <p:xfrm>
            <a:off x="0" y="0"/>
            <a:ext cx="9144000" cy="261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4000" cy="261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6" name=""/>
            <p:cNvSpPr/>
            <p:nvPr/>
          </p:nvSpPr>
          <p:spPr>
            <a:xfrm>
              <a:off x="476280" y="723960"/>
              <a:ext cx="754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   h   a   p   t   e   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165240" y="111744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9600" spc="-1" strike="noStrike">
                <a:solidFill>
                  <a:srgbClr val="000000"/>
                </a:solidFill>
                <a:latin typeface="AvantGarde Bk BT"/>
              </a:rPr>
              <a:t>1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784520" y="2876400"/>
            <a:ext cx="5790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ETHICAL &amp; SOCIAL IMPACT OF INFORMATIO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dur="indefinite" fill="hold">
                      <p:stCondLst>
                        <p:cond delay="0"/>
                      </p:stCondLst>
                      <p:childTnLst>
                        <p:par>
                          <p:cTn id="9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 MT Extra Bold"/>
              </a:rPr>
              <a:t>LEARNING OBJECTIVES</a:t>
            </a: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PPLY ETHICAL ANALYSI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EXAMINE ETHICAL PRINCIPLES FOR CONDUCT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DESIGN CORPORATE POLICIES FOR ETHICAL CONDUCT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019920" y="4495680"/>
          <a:ext cx="2276280" cy="21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4495680"/>
                    <a:ext cx="227628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 MT Extra Bold"/>
              </a:rPr>
              <a:t>MANAGEMENT CHALLENGES</a:t>
            </a:r>
            <a:endParaRPr b="1" lang="en-US" sz="36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UNDERSTAND ETHICAL &amp; SOCIAL ISSUES RELATED TO SYSTEM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ETHICS IN AN INFORMATION SOCIETY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MORAL DIMENSION OF INFORMATION SYSTEM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729480" y="4886280"/>
            <a:ext cx="1774800" cy="1419120"/>
            <a:chOff x="6729480" y="4886280"/>
            <a:chExt cx="1774800" cy="1419120"/>
          </a:xfrm>
        </p:grpSpPr>
        <p:sp>
          <p:nvSpPr>
            <p:cNvPr id="57" name=""/>
            <p:cNvSpPr/>
            <p:nvPr/>
          </p:nvSpPr>
          <p:spPr>
            <a:xfrm>
              <a:off x="7575480" y="4954680"/>
              <a:ext cx="52560" cy="1253880"/>
            </a:xfrm>
            <a:prstGeom prst="rect">
              <a:avLst/>
            </a:prstGeom>
            <a:gradFill rotWithShape="0">
              <a:gsLst>
                <a:gs pos="0">
                  <a:srgbClr val="0c0000"/>
                </a:gs>
                <a:gs pos="50000">
                  <a:srgbClr val="050000"/>
                </a:gs>
                <a:gs pos="100000">
                  <a:srgbClr val="0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956720" y="5319720"/>
              <a:ext cx="460080" cy="585720"/>
            </a:xfrm>
            <a:custGeom>
              <a:avLst/>
              <a:gdLst/>
              <a:ahLst/>
              <a:rect l="l" t="t" r="r" b="b"/>
              <a:pathLst>
                <a:path w="580" h="737">
                  <a:moveTo>
                    <a:pt x="268" y="10"/>
                  </a:moveTo>
                  <a:lnTo>
                    <a:pt x="261" y="10"/>
                  </a:lnTo>
                  <a:lnTo>
                    <a:pt x="572" y="734"/>
                  </a:lnTo>
                  <a:lnTo>
                    <a:pt x="575" y="730"/>
                  </a:lnTo>
                  <a:lnTo>
                    <a:pt x="5" y="730"/>
                  </a:lnTo>
                  <a:lnTo>
                    <a:pt x="8" y="734"/>
                  </a:lnTo>
                  <a:lnTo>
                    <a:pt x="268" y="10"/>
                  </a:lnTo>
                  <a:lnTo>
                    <a:pt x="265" y="0"/>
                  </a:lnTo>
                  <a:lnTo>
                    <a:pt x="0" y="737"/>
                  </a:lnTo>
                  <a:lnTo>
                    <a:pt x="580" y="737"/>
                  </a:lnTo>
                  <a:lnTo>
                    <a:pt x="265" y="0"/>
                  </a:lnTo>
                  <a:lnTo>
                    <a:pt x="268" y="10"/>
                  </a:lnTo>
                  <a:close/>
                </a:path>
              </a:pathLst>
            </a:custGeom>
            <a:gradFill rotWithShape="0">
              <a:gsLst>
                <a:gs pos="0">
                  <a:srgbClr val="b26500"/>
                </a:gs>
                <a:gs pos="50000">
                  <a:srgbClr val="522e00"/>
                </a:gs>
                <a:gs pos="100000">
                  <a:srgbClr val="b2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164440" y="5330880"/>
              <a:ext cx="6480" cy="571320"/>
            </a:xfrm>
            <a:custGeom>
              <a:avLst/>
              <a:gdLst/>
              <a:ahLst/>
              <a:rect l="l" t="t" r="r" b="b"/>
              <a:pathLst>
                <a:path w="10" h="719">
                  <a:moveTo>
                    <a:pt x="0" y="0"/>
                  </a:moveTo>
                  <a:lnTo>
                    <a:pt x="3" y="719"/>
                  </a:lnTo>
                  <a:lnTo>
                    <a:pt x="10" y="7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6500"/>
                </a:gs>
                <a:gs pos="50000">
                  <a:srgbClr val="522e00"/>
                </a:gs>
                <a:gs pos="100000">
                  <a:srgbClr val="b2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850160" y="5899320"/>
              <a:ext cx="654120" cy="33120"/>
            </a:xfrm>
            <a:custGeom>
              <a:avLst/>
              <a:gdLst/>
              <a:ahLst/>
              <a:rect l="l" t="t" r="r" b="b"/>
              <a:pathLst>
                <a:path w="824" h="43">
                  <a:moveTo>
                    <a:pt x="824" y="37"/>
                  </a:moveTo>
                  <a:lnTo>
                    <a:pt x="824" y="0"/>
                  </a:lnTo>
                  <a:lnTo>
                    <a:pt x="0" y="2"/>
                  </a:lnTo>
                  <a:lnTo>
                    <a:pt x="0" y="43"/>
                  </a:lnTo>
                  <a:lnTo>
                    <a:pt x="824" y="37"/>
                  </a:lnTo>
                  <a:close/>
                </a:path>
              </a:pathLst>
            </a:custGeom>
            <a:gradFill rotWithShape="0">
              <a:gsLst>
                <a:gs pos="0">
                  <a:srgbClr val="b26500"/>
                </a:gs>
                <a:gs pos="50000">
                  <a:srgbClr val="522e00"/>
                </a:gs>
                <a:gs pos="100000">
                  <a:srgbClr val="b2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926480" y="5916600"/>
              <a:ext cx="506160" cy="46080"/>
            </a:xfrm>
            <a:custGeom>
              <a:avLst/>
              <a:gdLst/>
              <a:ahLst/>
              <a:rect l="l" t="t" r="r" b="b"/>
              <a:pathLst>
                <a:path w="638" h="60">
                  <a:moveTo>
                    <a:pt x="638" y="57"/>
                  </a:moveTo>
                  <a:lnTo>
                    <a:pt x="638" y="0"/>
                  </a:lnTo>
                  <a:lnTo>
                    <a:pt x="0" y="3"/>
                  </a:lnTo>
                  <a:lnTo>
                    <a:pt x="0" y="60"/>
                  </a:lnTo>
                  <a:lnTo>
                    <a:pt x="638" y="57"/>
                  </a:lnTo>
                  <a:close/>
                </a:path>
              </a:pathLst>
            </a:custGeom>
            <a:gradFill rotWithShape="0">
              <a:gsLst>
                <a:gs pos="0">
                  <a:srgbClr val="b26500"/>
                </a:gs>
                <a:gs pos="50000">
                  <a:srgbClr val="522e00"/>
                </a:gs>
                <a:gs pos="100000">
                  <a:srgbClr val="b2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2440" y="5948280"/>
              <a:ext cx="368280" cy="50760"/>
            </a:xfrm>
            <a:custGeom>
              <a:avLst/>
              <a:gdLst/>
              <a:ahLst/>
              <a:rect l="l" t="t" r="r" b="b"/>
              <a:pathLst>
                <a:path w="466" h="64">
                  <a:moveTo>
                    <a:pt x="463" y="0"/>
                  </a:moveTo>
                  <a:lnTo>
                    <a:pt x="0" y="3"/>
                  </a:lnTo>
                  <a:lnTo>
                    <a:pt x="4" y="14"/>
                  </a:lnTo>
                  <a:lnTo>
                    <a:pt x="8" y="25"/>
                  </a:lnTo>
                  <a:lnTo>
                    <a:pt x="15" y="36"/>
                  </a:lnTo>
                  <a:lnTo>
                    <a:pt x="23" y="45"/>
                  </a:lnTo>
                  <a:lnTo>
                    <a:pt x="33" y="53"/>
                  </a:lnTo>
                  <a:lnTo>
                    <a:pt x="42" y="59"/>
                  </a:lnTo>
                  <a:lnTo>
                    <a:pt x="52" y="63"/>
                  </a:lnTo>
                  <a:lnTo>
                    <a:pt x="62" y="64"/>
                  </a:lnTo>
                  <a:lnTo>
                    <a:pt x="62" y="62"/>
                  </a:lnTo>
                  <a:lnTo>
                    <a:pt x="404" y="62"/>
                  </a:lnTo>
                  <a:lnTo>
                    <a:pt x="413" y="61"/>
                  </a:lnTo>
                  <a:lnTo>
                    <a:pt x="423" y="56"/>
                  </a:lnTo>
                  <a:lnTo>
                    <a:pt x="434" y="51"/>
                  </a:lnTo>
                  <a:lnTo>
                    <a:pt x="444" y="43"/>
                  </a:lnTo>
                  <a:lnTo>
                    <a:pt x="453" y="33"/>
                  </a:lnTo>
                  <a:lnTo>
                    <a:pt x="460" y="23"/>
                  </a:lnTo>
                  <a:lnTo>
                    <a:pt x="465" y="12"/>
                  </a:lnTo>
                  <a:lnTo>
                    <a:pt x="466" y="0"/>
                  </a:lnTo>
                  <a:lnTo>
                    <a:pt x="463" y="0"/>
                  </a:lnTo>
                  <a:close/>
                </a:path>
              </a:pathLst>
            </a:custGeom>
            <a:gradFill rotWithShape="0">
              <a:gsLst>
                <a:gs pos="0">
                  <a:srgbClr val="b26500"/>
                </a:gs>
                <a:gs pos="50000">
                  <a:srgbClr val="522e00"/>
                </a:gs>
                <a:gs pos="100000">
                  <a:srgbClr val="b2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091360" y="5210280"/>
              <a:ext cx="106560" cy="106200"/>
            </a:xfrm>
            <a:custGeom>
              <a:avLst/>
              <a:gdLst/>
              <a:ahLst/>
              <a:rect l="l" t="t" r="r" b="b"/>
              <a:pathLst>
                <a:path w="133" h="135">
                  <a:moveTo>
                    <a:pt x="43" y="132"/>
                  </a:moveTo>
                  <a:lnTo>
                    <a:pt x="57" y="135"/>
                  </a:lnTo>
                  <a:lnTo>
                    <a:pt x="70" y="135"/>
                  </a:lnTo>
                  <a:lnTo>
                    <a:pt x="84" y="133"/>
                  </a:lnTo>
                  <a:lnTo>
                    <a:pt x="95" y="128"/>
                  </a:lnTo>
                  <a:lnTo>
                    <a:pt x="106" y="122"/>
                  </a:lnTo>
                  <a:lnTo>
                    <a:pt x="116" y="112"/>
                  </a:lnTo>
                  <a:lnTo>
                    <a:pt x="124" y="102"/>
                  </a:lnTo>
                  <a:lnTo>
                    <a:pt x="129" y="89"/>
                  </a:lnTo>
                  <a:lnTo>
                    <a:pt x="133" y="76"/>
                  </a:lnTo>
                  <a:lnTo>
                    <a:pt x="133" y="63"/>
                  </a:lnTo>
                  <a:lnTo>
                    <a:pt x="131" y="49"/>
                  </a:lnTo>
                  <a:lnTo>
                    <a:pt x="126" y="38"/>
                  </a:lnTo>
                  <a:lnTo>
                    <a:pt x="119" y="27"/>
                  </a:lnTo>
                  <a:lnTo>
                    <a:pt x="110" y="17"/>
                  </a:lnTo>
                  <a:lnTo>
                    <a:pt x="100" y="9"/>
                  </a:lnTo>
                  <a:lnTo>
                    <a:pt x="87" y="4"/>
                  </a:lnTo>
                  <a:lnTo>
                    <a:pt x="74" y="0"/>
                  </a:lnTo>
                  <a:lnTo>
                    <a:pt x="62" y="0"/>
                  </a:lnTo>
                  <a:lnTo>
                    <a:pt x="49" y="3"/>
                  </a:lnTo>
                  <a:lnTo>
                    <a:pt x="37" y="7"/>
                  </a:lnTo>
                  <a:lnTo>
                    <a:pt x="26" y="14"/>
                  </a:lnTo>
                  <a:lnTo>
                    <a:pt x="17" y="23"/>
                  </a:lnTo>
                  <a:lnTo>
                    <a:pt x="9" y="33"/>
                  </a:lnTo>
                  <a:lnTo>
                    <a:pt x="3" y="46"/>
                  </a:lnTo>
                  <a:lnTo>
                    <a:pt x="0" y="60"/>
                  </a:lnTo>
                  <a:lnTo>
                    <a:pt x="0" y="73"/>
                  </a:lnTo>
                  <a:lnTo>
                    <a:pt x="2" y="86"/>
                  </a:lnTo>
                  <a:lnTo>
                    <a:pt x="7" y="99"/>
                  </a:lnTo>
                  <a:lnTo>
                    <a:pt x="12" y="109"/>
                  </a:lnTo>
                  <a:lnTo>
                    <a:pt x="22" y="119"/>
                  </a:lnTo>
                  <a:lnTo>
                    <a:pt x="32" y="126"/>
                  </a:lnTo>
                  <a:lnTo>
                    <a:pt x="43" y="132"/>
                  </a:lnTo>
                  <a:lnTo>
                    <a:pt x="43" y="130"/>
                  </a:lnTo>
                  <a:lnTo>
                    <a:pt x="43" y="132"/>
                  </a:lnTo>
                  <a:close/>
                </a:path>
              </a:pathLst>
            </a:custGeom>
            <a:gradFill rotWithShape="0">
              <a:gsLst>
                <a:gs pos="0">
                  <a:srgbClr val="b26500"/>
                </a:gs>
                <a:gs pos="50000">
                  <a:srgbClr val="522e00"/>
                </a:gs>
                <a:gs pos="100000">
                  <a:srgbClr val="b2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024680" y="5051520"/>
              <a:ext cx="1155600" cy="303120"/>
            </a:xfrm>
            <a:custGeom>
              <a:avLst/>
              <a:gdLst/>
              <a:ahLst/>
              <a:rect l="l" t="t" r="r" b="b"/>
              <a:pathLst>
                <a:path w="1456" h="382">
                  <a:moveTo>
                    <a:pt x="718" y="220"/>
                  </a:moveTo>
                  <a:lnTo>
                    <a:pt x="711" y="219"/>
                  </a:lnTo>
                  <a:lnTo>
                    <a:pt x="702" y="217"/>
                  </a:lnTo>
                  <a:lnTo>
                    <a:pt x="692" y="215"/>
                  </a:lnTo>
                  <a:lnTo>
                    <a:pt x="679" y="212"/>
                  </a:lnTo>
                  <a:lnTo>
                    <a:pt x="652" y="203"/>
                  </a:lnTo>
                  <a:lnTo>
                    <a:pt x="637" y="197"/>
                  </a:lnTo>
                  <a:lnTo>
                    <a:pt x="620" y="189"/>
                  </a:lnTo>
                  <a:lnTo>
                    <a:pt x="600" y="176"/>
                  </a:lnTo>
                  <a:lnTo>
                    <a:pt x="581" y="165"/>
                  </a:lnTo>
                  <a:lnTo>
                    <a:pt x="561" y="157"/>
                  </a:lnTo>
                  <a:lnTo>
                    <a:pt x="543" y="150"/>
                  </a:lnTo>
                  <a:lnTo>
                    <a:pt x="507" y="142"/>
                  </a:lnTo>
                  <a:lnTo>
                    <a:pt x="472" y="140"/>
                  </a:lnTo>
                  <a:lnTo>
                    <a:pt x="435" y="142"/>
                  </a:lnTo>
                  <a:lnTo>
                    <a:pt x="396" y="148"/>
                  </a:lnTo>
                  <a:lnTo>
                    <a:pt x="354" y="156"/>
                  </a:lnTo>
                  <a:lnTo>
                    <a:pt x="307" y="165"/>
                  </a:lnTo>
                  <a:lnTo>
                    <a:pt x="283" y="169"/>
                  </a:lnTo>
                  <a:lnTo>
                    <a:pt x="259" y="172"/>
                  </a:lnTo>
                  <a:lnTo>
                    <a:pt x="213" y="172"/>
                  </a:lnTo>
                  <a:lnTo>
                    <a:pt x="191" y="168"/>
                  </a:lnTo>
                  <a:lnTo>
                    <a:pt x="169" y="165"/>
                  </a:lnTo>
                  <a:lnTo>
                    <a:pt x="149" y="159"/>
                  </a:lnTo>
                  <a:lnTo>
                    <a:pt x="129" y="151"/>
                  </a:lnTo>
                  <a:lnTo>
                    <a:pt x="110" y="142"/>
                  </a:lnTo>
                  <a:lnTo>
                    <a:pt x="91" y="132"/>
                  </a:lnTo>
                  <a:lnTo>
                    <a:pt x="74" y="119"/>
                  </a:lnTo>
                  <a:lnTo>
                    <a:pt x="57" y="105"/>
                  </a:lnTo>
                  <a:lnTo>
                    <a:pt x="42" y="89"/>
                  </a:lnTo>
                  <a:lnTo>
                    <a:pt x="26" y="72"/>
                  </a:lnTo>
                  <a:lnTo>
                    <a:pt x="12" y="53"/>
                  </a:lnTo>
                  <a:lnTo>
                    <a:pt x="0" y="32"/>
                  </a:lnTo>
                  <a:lnTo>
                    <a:pt x="9" y="34"/>
                  </a:lnTo>
                  <a:lnTo>
                    <a:pt x="13" y="36"/>
                  </a:lnTo>
                  <a:lnTo>
                    <a:pt x="18" y="37"/>
                  </a:lnTo>
                  <a:lnTo>
                    <a:pt x="32" y="39"/>
                  </a:lnTo>
                  <a:lnTo>
                    <a:pt x="45" y="41"/>
                  </a:lnTo>
                  <a:lnTo>
                    <a:pt x="55" y="44"/>
                  </a:lnTo>
                  <a:lnTo>
                    <a:pt x="66" y="46"/>
                  </a:lnTo>
                  <a:lnTo>
                    <a:pt x="103" y="57"/>
                  </a:lnTo>
                  <a:lnTo>
                    <a:pt x="137" y="64"/>
                  </a:lnTo>
                  <a:lnTo>
                    <a:pt x="168" y="68"/>
                  </a:lnTo>
                  <a:lnTo>
                    <a:pt x="196" y="69"/>
                  </a:lnTo>
                  <a:lnTo>
                    <a:pt x="222" y="66"/>
                  </a:lnTo>
                  <a:lnTo>
                    <a:pt x="246" y="63"/>
                  </a:lnTo>
                  <a:lnTo>
                    <a:pt x="269" y="57"/>
                  </a:lnTo>
                  <a:lnTo>
                    <a:pt x="289" y="50"/>
                  </a:lnTo>
                  <a:lnTo>
                    <a:pt x="328" y="34"/>
                  </a:lnTo>
                  <a:lnTo>
                    <a:pt x="347" y="26"/>
                  </a:lnTo>
                  <a:lnTo>
                    <a:pt x="365" y="20"/>
                  </a:lnTo>
                  <a:lnTo>
                    <a:pt x="401" y="7"/>
                  </a:lnTo>
                  <a:lnTo>
                    <a:pt x="419" y="2"/>
                  </a:lnTo>
                  <a:lnTo>
                    <a:pt x="438" y="1"/>
                  </a:lnTo>
                  <a:lnTo>
                    <a:pt x="466" y="0"/>
                  </a:lnTo>
                  <a:lnTo>
                    <a:pt x="495" y="2"/>
                  </a:lnTo>
                  <a:lnTo>
                    <a:pt x="523" y="8"/>
                  </a:lnTo>
                  <a:lnTo>
                    <a:pt x="551" y="20"/>
                  </a:lnTo>
                  <a:lnTo>
                    <a:pt x="594" y="42"/>
                  </a:lnTo>
                  <a:lnTo>
                    <a:pt x="641" y="63"/>
                  </a:lnTo>
                  <a:lnTo>
                    <a:pt x="691" y="79"/>
                  </a:lnTo>
                  <a:lnTo>
                    <a:pt x="717" y="86"/>
                  </a:lnTo>
                  <a:lnTo>
                    <a:pt x="744" y="92"/>
                  </a:lnTo>
                  <a:lnTo>
                    <a:pt x="799" y="100"/>
                  </a:lnTo>
                  <a:lnTo>
                    <a:pt x="852" y="103"/>
                  </a:lnTo>
                  <a:lnTo>
                    <a:pt x="903" y="102"/>
                  </a:lnTo>
                  <a:lnTo>
                    <a:pt x="952" y="98"/>
                  </a:lnTo>
                  <a:lnTo>
                    <a:pt x="980" y="100"/>
                  </a:lnTo>
                  <a:lnTo>
                    <a:pt x="1009" y="105"/>
                  </a:lnTo>
                  <a:lnTo>
                    <a:pt x="1037" y="114"/>
                  </a:lnTo>
                  <a:lnTo>
                    <a:pt x="1062" y="125"/>
                  </a:lnTo>
                  <a:lnTo>
                    <a:pt x="1079" y="134"/>
                  </a:lnTo>
                  <a:lnTo>
                    <a:pt x="1094" y="144"/>
                  </a:lnTo>
                  <a:lnTo>
                    <a:pt x="1123" y="171"/>
                  </a:lnTo>
                  <a:lnTo>
                    <a:pt x="1150" y="199"/>
                  </a:lnTo>
                  <a:lnTo>
                    <a:pt x="1180" y="229"/>
                  </a:lnTo>
                  <a:lnTo>
                    <a:pt x="1196" y="244"/>
                  </a:lnTo>
                  <a:lnTo>
                    <a:pt x="1215" y="257"/>
                  </a:lnTo>
                  <a:lnTo>
                    <a:pt x="1236" y="270"/>
                  </a:lnTo>
                  <a:lnTo>
                    <a:pt x="1259" y="281"/>
                  </a:lnTo>
                  <a:lnTo>
                    <a:pt x="1286" y="292"/>
                  </a:lnTo>
                  <a:lnTo>
                    <a:pt x="1316" y="301"/>
                  </a:lnTo>
                  <a:lnTo>
                    <a:pt x="1351" y="307"/>
                  </a:lnTo>
                  <a:lnTo>
                    <a:pt x="1388" y="311"/>
                  </a:lnTo>
                  <a:lnTo>
                    <a:pt x="1400" y="312"/>
                  </a:lnTo>
                  <a:lnTo>
                    <a:pt x="1409" y="315"/>
                  </a:lnTo>
                  <a:lnTo>
                    <a:pt x="1424" y="317"/>
                  </a:lnTo>
                  <a:lnTo>
                    <a:pt x="1438" y="318"/>
                  </a:lnTo>
                  <a:lnTo>
                    <a:pt x="1456" y="320"/>
                  </a:lnTo>
                  <a:lnTo>
                    <a:pt x="1437" y="334"/>
                  </a:lnTo>
                  <a:lnTo>
                    <a:pt x="1416" y="347"/>
                  </a:lnTo>
                  <a:lnTo>
                    <a:pt x="1395" y="357"/>
                  </a:lnTo>
                  <a:lnTo>
                    <a:pt x="1375" y="366"/>
                  </a:lnTo>
                  <a:lnTo>
                    <a:pt x="1354" y="373"/>
                  </a:lnTo>
                  <a:lnTo>
                    <a:pt x="1332" y="378"/>
                  </a:lnTo>
                  <a:lnTo>
                    <a:pt x="1312" y="381"/>
                  </a:lnTo>
                  <a:lnTo>
                    <a:pt x="1290" y="382"/>
                  </a:lnTo>
                  <a:lnTo>
                    <a:pt x="1269" y="381"/>
                  </a:lnTo>
                  <a:lnTo>
                    <a:pt x="1247" y="379"/>
                  </a:lnTo>
                  <a:lnTo>
                    <a:pt x="1226" y="375"/>
                  </a:lnTo>
                  <a:lnTo>
                    <a:pt x="1204" y="368"/>
                  </a:lnTo>
                  <a:lnTo>
                    <a:pt x="1183" y="362"/>
                  </a:lnTo>
                  <a:lnTo>
                    <a:pt x="1162" y="351"/>
                  </a:lnTo>
                  <a:lnTo>
                    <a:pt x="1140" y="340"/>
                  </a:lnTo>
                  <a:lnTo>
                    <a:pt x="1119" y="327"/>
                  </a:lnTo>
                  <a:lnTo>
                    <a:pt x="1100" y="313"/>
                  </a:lnTo>
                  <a:lnTo>
                    <a:pt x="1080" y="301"/>
                  </a:lnTo>
                  <a:lnTo>
                    <a:pt x="1062" y="288"/>
                  </a:lnTo>
                  <a:lnTo>
                    <a:pt x="1045" y="277"/>
                  </a:lnTo>
                  <a:lnTo>
                    <a:pt x="1011" y="256"/>
                  </a:lnTo>
                  <a:lnTo>
                    <a:pt x="979" y="240"/>
                  </a:lnTo>
                  <a:lnTo>
                    <a:pt x="945" y="229"/>
                  </a:lnTo>
                  <a:lnTo>
                    <a:pt x="928" y="225"/>
                  </a:lnTo>
                  <a:lnTo>
                    <a:pt x="908" y="223"/>
                  </a:lnTo>
                  <a:lnTo>
                    <a:pt x="889" y="222"/>
                  </a:lnTo>
                  <a:lnTo>
                    <a:pt x="868" y="223"/>
                  </a:lnTo>
                  <a:lnTo>
                    <a:pt x="846" y="225"/>
                  </a:lnTo>
                  <a:lnTo>
                    <a:pt x="822" y="230"/>
                  </a:lnTo>
                  <a:lnTo>
                    <a:pt x="810" y="232"/>
                  </a:lnTo>
                  <a:lnTo>
                    <a:pt x="797" y="233"/>
                  </a:lnTo>
                  <a:lnTo>
                    <a:pt x="775" y="231"/>
                  </a:lnTo>
                  <a:lnTo>
                    <a:pt x="764" y="229"/>
                  </a:lnTo>
                  <a:lnTo>
                    <a:pt x="751" y="225"/>
                  </a:lnTo>
                  <a:lnTo>
                    <a:pt x="736" y="223"/>
                  </a:lnTo>
                  <a:lnTo>
                    <a:pt x="718" y="220"/>
                  </a:lnTo>
                  <a:lnTo>
                    <a:pt x="718" y="217"/>
                  </a:lnTo>
                  <a:lnTo>
                    <a:pt x="718" y="220"/>
                  </a:lnTo>
                  <a:close/>
                </a:path>
              </a:pathLst>
            </a:custGeom>
            <a:gradFill rotWithShape="0">
              <a:gsLst>
                <a:gs pos="0">
                  <a:srgbClr val="0c0000"/>
                </a:gs>
                <a:gs pos="50000">
                  <a:srgbClr val="050000"/>
                </a:gs>
                <a:gs pos="100000">
                  <a:srgbClr val="0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020000" y="4995720"/>
              <a:ext cx="106200" cy="106560"/>
            </a:xfrm>
            <a:custGeom>
              <a:avLst/>
              <a:gdLst/>
              <a:ahLst/>
              <a:rect l="l" t="t" r="r" b="b"/>
              <a:pathLst>
                <a:path w="133" h="134">
                  <a:moveTo>
                    <a:pt x="62" y="134"/>
                  </a:moveTo>
                  <a:lnTo>
                    <a:pt x="48" y="132"/>
                  </a:lnTo>
                  <a:lnTo>
                    <a:pt x="36" y="127"/>
                  </a:lnTo>
                  <a:lnTo>
                    <a:pt x="24" y="121"/>
                  </a:lnTo>
                  <a:lnTo>
                    <a:pt x="15" y="113"/>
                  </a:lnTo>
                  <a:lnTo>
                    <a:pt x="8" y="101"/>
                  </a:lnTo>
                  <a:lnTo>
                    <a:pt x="2" y="90"/>
                  </a:lnTo>
                  <a:lnTo>
                    <a:pt x="0" y="76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7" y="37"/>
                  </a:lnTo>
                  <a:lnTo>
                    <a:pt x="14" y="27"/>
                  </a:lnTo>
                  <a:lnTo>
                    <a:pt x="22" y="18"/>
                  </a:lnTo>
                  <a:lnTo>
                    <a:pt x="32" y="10"/>
                  </a:lnTo>
                  <a:lnTo>
                    <a:pt x="45" y="4"/>
                  </a:lnTo>
                  <a:lnTo>
                    <a:pt x="57" y="0"/>
                  </a:lnTo>
                  <a:lnTo>
                    <a:pt x="71" y="0"/>
                  </a:lnTo>
                  <a:lnTo>
                    <a:pt x="84" y="3"/>
                  </a:lnTo>
                  <a:lnTo>
                    <a:pt x="96" y="7"/>
                  </a:lnTo>
                  <a:lnTo>
                    <a:pt x="107" y="15"/>
                  </a:lnTo>
                  <a:lnTo>
                    <a:pt x="116" y="24"/>
                  </a:lnTo>
                  <a:lnTo>
                    <a:pt x="124" y="35"/>
                  </a:lnTo>
                  <a:lnTo>
                    <a:pt x="129" y="46"/>
                  </a:lnTo>
                  <a:lnTo>
                    <a:pt x="133" y="59"/>
                  </a:lnTo>
                  <a:lnTo>
                    <a:pt x="133" y="72"/>
                  </a:lnTo>
                  <a:lnTo>
                    <a:pt x="131" y="86"/>
                  </a:lnTo>
                  <a:lnTo>
                    <a:pt x="126" y="99"/>
                  </a:lnTo>
                  <a:lnTo>
                    <a:pt x="119" y="110"/>
                  </a:lnTo>
                  <a:lnTo>
                    <a:pt x="110" y="119"/>
                  </a:lnTo>
                  <a:lnTo>
                    <a:pt x="100" y="126"/>
                  </a:lnTo>
                  <a:lnTo>
                    <a:pt x="87" y="132"/>
                  </a:lnTo>
                  <a:lnTo>
                    <a:pt x="74" y="134"/>
                  </a:lnTo>
                  <a:lnTo>
                    <a:pt x="60" y="134"/>
                  </a:lnTo>
                  <a:lnTo>
                    <a:pt x="62" y="134"/>
                  </a:lnTo>
                  <a:close/>
                </a:path>
              </a:pathLst>
            </a:custGeom>
            <a:gradFill rotWithShape="0">
              <a:gsLst>
                <a:gs pos="0">
                  <a:srgbClr val="b26500"/>
                </a:gs>
                <a:gs pos="50000">
                  <a:srgbClr val="522e00"/>
                </a:gs>
                <a:gs pos="100000">
                  <a:srgbClr val="b2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35680" y="5119560"/>
              <a:ext cx="459000" cy="582840"/>
            </a:xfrm>
            <a:custGeom>
              <a:avLst/>
              <a:gdLst/>
              <a:ahLst/>
              <a:rect l="l" t="t" r="r" b="b"/>
              <a:pathLst>
                <a:path w="579" h="734">
                  <a:moveTo>
                    <a:pt x="268" y="10"/>
                  </a:moveTo>
                  <a:lnTo>
                    <a:pt x="261" y="10"/>
                  </a:lnTo>
                  <a:lnTo>
                    <a:pt x="571" y="732"/>
                  </a:lnTo>
                  <a:lnTo>
                    <a:pt x="574" y="728"/>
                  </a:lnTo>
                  <a:lnTo>
                    <a:pt x="5" y="728"/>
                  </a:lnTo>
                  <a:lnTo>
                    <a:pt x="8" y="732"/>
                  </a:lnTo>
                  <a:lnTo>
                    <a:pt x="268" y="10"/>
                  </a:lnTo>
                  <a:lnTo>
                    <a:pt x="265" y="0"/>
                  </a:lnTo>
                  <a:lnTo>
                    <a:pt x="0" y="734"/>
                  </a:lnTo>
                  <a:lnTo>
                    <a:pt x="579" y="734"/>
                  </a:lnTo>
                  <a:lnTo>
                    <a:pt x="265" y="0"/>
                  </a:lnTo>
                  <a:lnTo>
                    <a:pt x="268" y="10"/>
                  </a:lnTo>
                  <a:close/>
                </a:path>
              </a:pathLst>
            </a:custGeom>
            <a:gradFill rotWithShape="0">
              <a:gsLst>
                <a:gs pos="0">
                  <a:srgbClr val="b26500"/>
                </a:gs>
                <a:gs pos="50000">
                  <a:srgbClr val="522e00"/>
                </a:gs>
                <a:gs pos="100000">
                  <a:srgbClr val="b2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42320" y="5130720"/>
              <a:ext cx="7920" cy="568440"/>
            </a:xfrm>
            <a:custGeom>
              <a:avLst/>
              <a:gdLst/>
              <a:ahLst/>
              <a:rect l="l" t="t" r="r" b="b"/>
              <a:pathLst>
                <a:path w="10" h="717">
                  <a:moveTo>
                    <a:pt x="0" y="0"/>
                  </a:moveTo>
                  <a:lnTo>
                    <a:pt x="3" y="717"/>
                  </a:lnTo>
                  <a:lnTo>
                    <a:pt x="10" y="71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6500"/>
                </a:gs>
                <a:gs pos="50000">
                  <a:srgbClr val="522e00"/>
                </a:gs>
                <a:gs pos="100000">
                  <a:srgbClr val="b2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29480" y="5695920"/>
              <a:ext cx="652320" cy="34920"/>
            </a:xfrm>
            <a:custGeom>
              <a:avLst/>
              <a:gdLst/>
              <a:ahLst/>
              <a:rect l="l" t="t" r="r" b="b"/>
              <a:pathLst>
                <a:path w="823" h="44">
                  <a:moveTo>
                    <a:pt x="823" y="38"/>
                  </a:moveTo>
                  <a:lnTo>
                    <a:pt x="823" y="0"/>
                  </a:lnTo>
                  <a:lnTo>
                    <a:pt x="0" y="5"/>
                  </a:lnTo>
                  <a:lnTo>
                    <a:pt x="0" y="44"/>
                  </a:lnTo>
                  <a:lnTo>
                    <a:pt x="823" y="38"/>
                  </a:lnTo>
                  <a:close/>
                </a:path>
              </a:pathLst>
            </a:custGeom>
            <a:gradFill rotWithShape="0">
              <a:gsLst>
                <a:gs pos="0">
                  <a:srgbClr val="b26500"/>
                </a:gs>
                <a:gs pos="50000">
                  <a:srgbClr val="522e00"/>
                </a:gs>
                <a:gs pos="100000">
                  <a:srgbClr val="b2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04000" y="5713560"/>
              <a:ext cx="507960" cy="47520"/>
            </a:xfrm>
            <a:custGeom>
              <a:avLst/>
              <a:gdLst/>
              <a:ahLst/>
              <a:rect l="l" t="t" r="r" b="b"/>
              <a:pathLst>
                <a:path w="640" h="60">
                  <a:moveTo>
                    <a:pt x="640" y="57"/>
                  </a:moveTo>
                  <a:lnTo>
                    <a:pt x="637" y="0"/>
                  </a:lnTo>
                  <a:lnTo>
                    <a:pt x="0" y="5"/>
                  </a:lnTo>
                  <a:lnTo>
                    <a:pt x="0" y="60"/>
                  </a:lnTo>
                  <a:lnTo>
                    <a:pt x="640" y="57"/>
                  </a:lnTo>
                  <a:close/>
                </a:path>
              </a:pathLst>
            </a:custGeom>
            <a:gradFill rotWithShape="0">
              <a:gsLst>
                <a:gs pos="0">
                  <a:srgbClr val="b26500"/>
                </a:gs>
                <a:gs pos="50000">
                  <a:srgbClr val="522e00"/>
                </a:gs>
                <a:gs pos="100000">
                  <a:srgbClr val="b2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80320" y="5745240"/>
              <a:ext cx="369720" cy="52200"/>
            </a:xfrm>
            <a:custGeom>
              <a:avLst/>
              <a:gdLst/>
              <a:ahLst/>
              <a:rect l="l" t="t" r="r" b="b"/>
              <a:pathLst>
                <a:path w="467" h="65">
                  <a:moveTo>
                    <a:pt x="467" y="0"/>
                  </a:moveTo>
                  <a:lnTo>
                    <a:pt x="0" y="2"/>
                  </a:lnTo>
                  <a:lnTo>
                    <a:pt x="3" y="2"/>
                  </a:lnTo>
                  <a:lnTo>
                    <a:pt x="5" y="14"/>
                  </a:lnTo>
                  <a:lnTo>
                    <a:pt x="10" y="25"/>
                  </a:lnTo>
                  <a:lnTo>
                    <a:pt x="16" y="36"/>
                  </a:lnTo>
                  <a:lnTo>
                    <a:pt x="24" y="46"/>
                  </a:lnTo>
                  <a:lnTo>
                    <a:pt x="34" y="54"/>
                  </a:lnTo>
                  <a:lnTo>
                    <a:pt x="44" y="60"/>
                  </a:lnTo>
                  <a:lnTo>
                    <a:pt x="55" y="64"/>
                  </a:lnTo>
                  <a:lnTo>
                    <a:pt x="66" y="65"/>
                  </a:lnTo>
                  <a:lnTo>
                    <a:pt x="63" y="65"/>
                  </a:lnTo>
                  <a:lnTo>
                    <a:pt x="404" y="62"/>
                  </a:lnTo>
                  <a:lnTo>
                    <a:pt x="407" y="62"/>
                  </a:lnTo>
                  <a:lnTo>
                    <a:pt x="415" y="61"/>
                  </a:lnTo>
                  <a:lnTo>
                    <a:pt x="424" y="57"/>
                  </a:lnTo>
                  <a:lnTo>
                    <a:pt x="435" y="52"/>
                  </a:lnTo>
                  <a:lnTo>
                    <a:pt x="445" y="44"/>
                  </a:lnTo>
                  <a:lnTo>
                    <a:pt x="454" y="34"/>
                  </a:lnTo>
                  <a:lnTo>
                    <a:pt x="461" y="24"/>
                  </a:lnTo>
                  <a:lnTo>
                    <a:pt x="466" y="13"/>
                  </a:lnTo>
                  <a:lnTo>
                    <a:pt x="467" y="0"/>
                  </a:lnTo>
                  <a:close/>
                </a:path>
              </a:pathLst>
            </a:custGeom>
            <a:gradFill rotWithShape="0">
              <a:gsLst>
                <a:gs pos="0">
                  <a:srgbClr val="b26500"/>
                </a:gs>
                <a:gs pos="50000">
                  <a:srgbClr val="522e00"/>
                </a:gs>
                <a:gs pos="100000">
                  <a:srgbClr val="b2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561440" y="4886280"/>
              <a:ext cx="82440" cy="8100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53" y="3"/>
                  </a:moveTo>
                  <a:lnTo>
                    <a:pt x="63" y="5"/>
                  </a:lnTo>
                  <a:lnTo>
                    <a:pt x="72" y="7"/>
                  </a:lnTo>
                  <a:lnTo>
                    <a:pt x="81" y="11"/>
                  </a:lnTo>
                  <a:lnTo>
                    <a:pt x="88" y="17"/>
                  </a:lnTo>
                  <a:lnTo>
                    <a:pt x="95" y="24"/>
                  </a:lnTo>
                  <a:lnTo>
                    <a:pt x="100" y="33"/>
                  </a:lnTo>
                  <a:lnTo>
                    <a:pt x="102" y="42"/>
                  </a:lnTo>
                  <a:lnTo>
                    <a:pt x="103" y="53"/>
                  </a:lnTo>
                  <a:lnTo>
                    <a:pt x="102" y="63"/>
                  </a:lnTo>
                  <a:lnTo>
                    <a:pt x="100" y="72"/>
                  </a:lnTo>
                  <a:lnTo>
                    <a:pt x="95" y="81"/>
                  </a:lnTo>
                  <a:lnTo>
                    <a:pt x="81" y="95"/>
                  </a:lnTo>
                  <a:lnTo>
                    <a:pt x="72" y="100"/>
                  </a:lnTo>
                  <a:lnTo>
                    <a:pt x="63" y="102"/>
                  </a:lnTo>
                  <a:lnTo>
                    <a:pt x="53" y="103"/>
                  </a:lnTo>
                  <a:lnTo>
                    <a:pt x="42" y="102"/>
                  </a:lnTo>
                  <a:lnTo>
                    <a:pt x="32" y="100"/>
                  </a:lnTo>
                  <a:lnTo>
                    <a:pt x="23" y="95"/>
                  </a:lnTo>
                  <a:lnTo>
                    <a:pt x="9" y="81"/>
                  </a:lnTo>
                  <a:lnTo>
                    <a:pt x="4" y="72"/>
                  </a:lnTo>
                  <a:lnTo>
                    <a:pt x="1" y="63"/>
                  </a:lnTo>
                  <a:lnTo>
                    <a:pt x="0" y="53"/>
                  </a:lnTo>
                  <a:lnTo>
                    <a:pt x="1" y="42"/>
                  </a:lnTo>
                  <a:lnTo>
                    <a:pt x="4" y="33"/>
                  </a:lnTo>
                  <a:lnTo>
                    <a:pt x="9" y="24"/>
                  </a:lnTo>
                  <a:lnTo>
                    <a:pt x="16" y="17"/>
                  </a:lnTo>
                  <a:lnTo>
                    <a:pt x="23" y="11"/>
                  </a:lnTo>
                  <a:lnTo>
                    <a:pt x="32" y="7"/>
                  </a:lnTo>
                  <a:lnTo>
                    <a:pt x="42" y="5"/>
                  </a:lnTo>
                  <a:lnTo>
                    <a:pt x="53" y="3"/>
                  </a:lnTo>
                  <a:lnTo>
                    <a:pt x="50" y="0"/>
                  </a:lnTo>
                  <a:lnTo>
                    <a:pt x="53" y="3"/>
                  </a:lnTo>
                  <a:close/>
                </a:path>
              </a:pathLst>
            </a:custGeom>
            <a:gradFill rotWithShape="0">
              <a:gsLst>
                <a:gs pos="0">
                  <a:srgbClr val="b26500"/>
                </a:gs>
                <a:gs pos="50000">
                  <a:srgbClr val="522e00"/>
                </a:gs>
                <a:gs pos="100000">
                  <a:srgbClr val="b2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496280" y="4984920"/>
              <a:ext cx="217440" cy="345960"/>
            </a:xfrm>
            <a:custGeom>
              <a:avLst/>
              <a:gdLst/>
              <a:ahLst/>
              <a:rect l="l" t="t" r="r" b="b"/>
              <a:pathLst>
                <a:path w="275" h="436">
                  <a:moveTo>
                    <a:pt x="137" y="436"/>
                  </a:moveTo>
                  <a:lnTo>
                    <a:pt x="115" y="434"/>
                  </a:lnTo>
                  <a:lnTo>
                    <a:pt x="95" y="432"/>
                  </a:lnTo>
                  <a:lnTo>
                    <a:pt x="78" y="428"/>
                  </a:lnTo>
                  <a:lnTo>
                    <a:pt x="63" y="422"/>
                  </a:lnTo>
                  <a:lnTo>
                    <a:pt x="49" y="414"/>
                  </a:lnTo>
                  <a:lnTo>
                    <a:pt x="38" y="405"/>
                  </a:lnTo>
                  <a:lnTo>
                    <a:pt x="27" y="392"/>
                  </a:lnTo>
                  <a:lnTo>
                    <a:pt x="17" y="378"/>
                  </a:lnTo>
                  <a:lnTo>
                    <a:pt x="10" y="365"/>
                  </a:lnTo>
                  <a:lnTo>
                    <a:pt x="5" y="350"/>
                  </a:lnTo>
                  <a:lnTo>
                    <a:pt x="1" y="335"/>
                  </a:lnTo>
                  <a:lnTo>
                    <a:pt x="0" y="320"/>
                  </a:lnTo>
                  <a:lnTo>
                    <a:pt x="1" y="289"/>
                  </a:lnTo>
                  <a:lnTo>
                    <a:pt x="8" y="257"/>
                  </a:lnTo>
                  <a:lnTo>
                    <a:pt x="13" y="239"/>
                  </a:lnTo>
                  <a:lnTo>
                    <a:pt x="18" y="220"/>
                  </a:lnTo>
                  <a:lnTo>
                    <a:pt x="33" y="180"/>
                  </a:lnTo>
                  <a:lnTo>
                    <a:pt x="52" y="140"/>
                  </a:lnTo>
                  <a:lnTo>
                    <a:pt x="70" y="104"/>
                  </a:lnTo>
                  <a:lnTo>
                    <a:pt x="83" y="81"/>
                  </a:lnTo>
                  <a:lnTo>
                    <a:pt x="98" y="57"/>
                  </a:lnTo>
                  <a:lnTo>
                    <a:pt x="116" y="29"/>
                  </a:lnTo>
                  <a:lnTo>
                    <a:pt x="137" y="0"/>
                  </a:lnTo>
                  <a:lnTo>
                    <a:pt x="159" y="29"/>
                  </a:lnTo>
                  <a:lnTo>
                    <a:pt x="178" y="57"/>
                  </a:lnTo>
                  <a:lnTo>
                    <a:pt x="194" y="81"/>
                  </a:lnTo>
                  <a:lnTo>
                    <a:pt x="206" y="104"/>
                  </a:lnTo>
                  <a:lnTo>
                    <a:pt x="222" y="140"/>
                  </a:lnTo>
                  <a:lnTo>
                    <a:pt x="241" y="180"/>
                  </a:lnTo>
                  <a:lnTo>
                    <a:pt x="256" y="220"/>
                  </a:lnTo>
                  <a:lnTo>
                    <a:pt x="268" y="257"/>
                  </a:lnTo>
                  <a:lnTo>
                    <a:pt x="274" y="289"/>
                  </a:lnTo>
                  <a:lnTo>
                    <a:pt x="275" y="320"/>
                  </a:lnTo>
                  <a:lnTo>
                    <a:pt x="273" y="335"/>
                  </a:lnTo>
                  <a:lnTo>
                    <a:pt x="269" y="350"/>
                  </a:lnTo>
                  <a:lnTo>
                    <a:pt x="264" y="365"/>
                  </a:lnTo>
                  <a:lnTo>
                    <a:pt x="256" y="378"/>
                  </a:lnTo>
                  <a:lnTo>
                    <a:pt x="248" y="392"/>
                  </a:lnTo>
                  <a:lnTo>
                    <a:pt x="237" y="405"/>
                  </a:lnTo>
                  <a:lnTo>
                    <a:pt x="226" y="414"/>
                  </a:lnTo>
                  <a:lnTo>
                    <a:pt x="213" y="422"/>
                  </a:lnTo>
                  <a:lnTo>
                    <a:pt x="197" y="428"/>
                  </a:lnTo>
                  <a:lnTo>
                    <a:pt x="180" y="432"/>
                  </a:lnTo>
                  <a:lnTo>
                    <a:pt x="161" y="434"/>
                  </a:lnTo>
                  <a:lnTo>
                    <a:pt x="139" y="436"/>
                  </a:lnTo>
                  <a:lnTo>
                    <a:pt x="137" y="433"/>
                  </a:lnTo>
                  <a:lnTo>
                    <a:pt x="134" y="433"/>
                  </a:lnTo>
                  <a:lnTo>
                    <a:pt x="137" y="436"/>
                  </a:lnTo>
                  <a:close/>
                </a:path>
              </a:pathLst>
            </a:custGeom>
            <a:gradFill rotWithShape="0">
              <a:gsLst>
                <a:gs pos="0">
                  <a:srgbClr val="0c0000"/>
                </a:gs>
                <a:gs pos="50000">
                  <a:srgbClr val="050000"/>
                </a:gs>
                <a:gs pos="100000">
                  <a:srgbClr val="0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26160" y="5743440"/>
              <a:ext cx="147960" cy="376200"/>
            </a:xfrm>
            <a:custGeom>
              <a:avLst/>
              <a:gdLst/>
              <a:ahLst/>
              <a:rect l="l" t="t" r="r" b="b"/>
              <a:pathLst>
                <a:path w="186" h="475">
                  <a:moveTo>
                    <a:pt x="93" y="475"/>
                  </a:moveTo>
                  <a:lnTo>
                    <a:pt x="102" y="473"/>
                  </a:lnTo>
                  <a:lnTo>
                    <a:pt x="112" y="470"/>
                  </a:lnTo>
                  <a:lnTo>
                    <a:pt x="122" y="464"/>
                  </a:lnTo>
                  <a:lnTo>
                    <a:pt x="130" y="456"/>
                  </a:lnTo>
                  <a:lnTo>
                    <a:pt x="138" y="446"/>
                  </a:lnTo>
                  <a:lnTo>
                    <a:pt x="146" y="433"/>
                  </a:lnTo>
                  <a:lnTo>
                    <a:pt x="153" y="420"/>
                  </a:lnTo>
                  <a:lnTo>
                    <a:pt x="159" y="405"/>
                  </a:lnTo>
                  <a:lnTo>
                    <a:pt x="171" y="369"/>
                  </a:lnTo>
                  <a:lnTo>
                    <a:pt x="179" y="328"/>
                  </a:lnTo>
                  <a:lnTo>
                    <a:pt x="183" y="284"/>
                  </a:lnTo>
                  <a:lnTo>
                    <a:pt x="186" y="236"/>
                  </a:lnTo>
                  <a:lnTo>
                    <a:pt x="183" y="189"/>
                  </a:lnTo>
                  <a:lnTo>
                    <a:pt x="179" y="145"/>
                  </a:lnTo>
                  <a:lnTo>
                    <a:pt x="171" y="105"/>
                  </a:lnTo>
                  <a:lnTo>
                    <a:pt x="159" y="70"/>
                  </a:lnTo>
                  <a:lnTo>
                    <a:pt x="153" y="55"/>
                  </a:lnTo>
                  <a:lnTo>
                    <a:pt x="146" y="41"/>
                  </a:lnTo>
                  <a:lnTo>
                    <a:pt x="138" y="28"/>
                  </a:lnTo>
                  <a:lnTo>
                    <a:pt x="130" y="18"/>
                  </a:lnTo>
                  <a:lnTo>
                    <a:pt x="122" y="10"/>
                  </a:lnTo>
                  <a:lnTo>
                    <a:pt x="112" y="4"/>
                  </a:lnTo>
                  <a:lnTo>
                    <a:pt x="102" y="1"/>
                  </a:lnTo>
                  <a:lnTo>
                    <a:pt x="93" y="0"/>
                  </a:lnTo>
                  <a:lnTo>
                    <a:pt x="84" y="1"/>
                  </a:lnTo>
                  <a:lnTo>
                    <a:pt x="73" y="4"/>
                  </a:lnTo>
                  <a:lnTo>
                    <a:pt x="64" y="10"/>
                  </a:lnTo>
                  <a:lnTo>
                    <a:pt x="56" y="18"/>
                  </a:lnTo>
                  <a:lnTo>
                    <a:pt x="48" y="28"/>
                  </a:lnTo>
                  <a:lnTo>
                    <a:pt x="40" y="41"/>
                  </a:lnTo>
                  <a:lnTo>
                    <a:pt x="33" y="55"/>
                  </a:lnTo>
                  <a:lnTo>
                    <a:pt x="26" y="70"/>
                  </a:lnTo>
                  <a:lnTo>
                    <a:pt x="16" y="105"/>
                  </a:lnTo>
                  <a:lnTo>
                    <a:pt x="7" y="145"/>
                  </a:lnTo>
                  <a:lnTo>
                    <a:pt x="2" y="189"/>
                  </a:lnTo>
                  <a:lnTo>
                    <a:pt x="0" y="236"/>
                  </a:lnTo>
                  <a:lnTo>
                    <a:pt x="2" y="284"/>
                  </a:lnTo>
                  <a:lnTo>
                    <a:pt x="7" y="328"/>
                  </a:lnTo>
                  <a:lnTo>
                    <a:pt x="16" y="369"/>
                  </a:lnTo>
                  <a:lnTo>
                    <a:pt x="26" y="405"/>
                  </a:lnTo>
                  <a:lnTo>
                    <a:pt x="33" y="420"/>
                  </a:lnTo>
                  <a:lnTo>
                    <a:pt x="40" y="433"/>
                  </a:lnTo>
                  <a:lnTo>
                    <a:pt x="48" y="446"/>
                  </a:lnTo>
                  <a:lnTo>
                    <a:pt x="56" y="456"/>
                  </a:lnTo>
                  <a:lnTo>
                    <a:pt x="64" y="464"/>
                  </a:lnTo>
                  <a:lnTo>
                    <a:pt x="73" y="470"/>
                  </a:lnTo>
                  <a:lnTo>
                    <a:pt x="84" y="473"/>
                  </a:lnTo>
                  <a:lnTo>
                    <a:pt x="93" y="475"/>
                  </a:lnTo>
                  <a:lnTo>
                    <a:pt x="91" y="472"/>
                  </a:lnTo>
                  <a:lnTo>
                    <a:pt x="93" y="475"/>
                  </a:lnTo>
                  <a:close/>
                </a:path>
              </a:pathLst>
            </a:custGeom>
            <a:gradFill rotWithShape="0">
              <a:gsLst>
                <a:gs pos="0">
                  <a:srgbClr val="0c0000"/>
                </a:gs>
                <a:gs pos="50000">
                  <a:srgbClr val="050000"/>
                </a:gs>
                <a:gs pos="100000">
                  <a:srgbClr val="0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548480" y="6084720"/>
              <a:ext cx="104760" cy="106560"/>
            </a:xfrm>
            <a:custGeom>
              <a:avLst/>
              <a:gdLst/>
              <a:ahLst/>
              <a:rect l="l" t="t" r="r" b="b"/>
              <a:pathLst>
                <a:path w="133" h="134">
                  <a:moveTo>
                    <a:pt x="45" y="130"/>
                  </a:moveTo>
                  <a:lnTo>
                    <a:pt x="58" y="134"/>
                  </a:lnTo>
                  <a:lnTo>
                    <a:pt x="72" y="134"/>
                  </a:lnTo>
                  <a:lnTo>
                    <a:pt x="84" y="132"/>
                  </a:lnTo>
                  <a:lnTo>
                    <a:pt x="96" y="127"/>
                  </a:lnTo>
                  <a:lnTo>
                    <a:pt x="106" y="120"/>
                  </a:lnTo>
                  <a:lnTo>
                    <a:pt x="117" y="112"/>
                  </a:lnTo>
                  <a:lnTo>
                    <a:pt x="123" y="102"/>
                  </a:lnTo>
                  <a:lnTo>
                    <a:pt x="129" y="89"/>
                  </a:lnTo>
                  <a:lnTo>
                    <a:pt x="133" y="76"/>
                  </a:lnTo>
                  <a:lnTo>
                    <a:pt x="133" y="63"/>
                  </a:lnTo>
                  <a:lnTo>
                    <a:pt x="130" y="50"/>
                  </a:lnTo>
                  <a:lnTo>
                    <a:pt x="127" y="38"/>
                  </a:lnTo>
                  <a:lnTo>
                    <a:pt x="120" y="26"/>
                  </a:lnTo>
                  <a:lnTo>
                    <a:pt x="111" y="17"/>
                  </a:lnTo>
                  <a:lnTo>
                    <a:pt x="100" y="9"/>
                  </a:lnTo>
                  <a:lnTo>
                    <a:pt x="89" y="3"/>
                  </a:lnTo>
                  <a:lnTo>
                    <a:pt x="75" y="0"/>
                  </a:lnTo>
                  <a:lnTo>
                    <a:pt x="63" y="0"/>
                  </a:lnTo>
                  <a:lnTo>
                    <a:pt x="49" y="2"/>
                  </a:lnTo>
                  <a:lnTo>
                    <a:pt x="37" y="8"/>
                  </a:lnTo>
                  <a:lnTo>
                    <a:pt x="26" y="15"/>
                  </a:lnTo>
                  <a:lnTo>
                    <a:pt x="17" y="24"/>
                  </a:lnTo>
                  <a:lnTo>
                    <a:pt x="9" y="34"/>
                  </a:lnTo>
                  <a:lnTo>
                    <a:pt x="3" y="47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2" y="85"/>
                  </a:lnTo>
                  <a:lnTo>
                    <a:pt x="7" y="96"/>
                  </a:lnTo>
                  <a:lnTo>
                    <a:pt x="13" y="108"/>
                  </a:lnTo>
                  <a:lnTo>
                    <a:pt x="23" y="117"/>
                  </a:lnTo>
                  <a:lnTo>
                    <a:pt x="33" y="125"/>
                  </a:lnTo>
                  <a:lnTo>
                    <a:pt x="45" y="130"/>
                  </a:lnTo>
                  <a:lnTo>
                    <a:pt x="43" y="130"/>
                  </a:lnTo>
                  <a:lnTo>
                    <a:pt x="45" y="130"/>
                  </a:lnTo>
                  <a:close/>
                </a:path>
              </a:pathLst>
            </a:custGeom>
            <a:gradFill rotWithShape="0">
              <a:gsLst>
                <a:gs pos="0">
                  <a:srgbClr val="b26500"/>
                </a:gs>
                <a:gs pos="50000">
                  <a:srgbClr val="522e00"/>
                </a:gs>
                <a:gs pos="100000">
                  <a:srgbClr val="b2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548480" y="5676840"/>
              <a:ext cx="104760" cy="106560"/>
            </a:xfrm>
            <a:custGeom>
              <a:avLst/>
              <a:gdLst/>
              <a:ahLst/>
              <a:rect l="l" t="t" r="r" b="b"/>
              <a:pathLst>
                <a:path w="133" h="134">
                  <a:moveTo>
                    <a:pt x="45" y="131"/>
                  </a:moveTo>
                  <a:lnTo>
                    <a:pt x="58" y="134"/>
                  </a:lnTo>
                  <a:lnTo>
                    <a:pt x="72" y="134"/>
                  </a:lnTo>
                  <a:lnTo>
                    <a:pt x="84" y="132"/>
                  </a:lnTo>
                  <a:lnTo>
                    <a:pt x="96" y="127"/>
                  </a:lnTo>
                  <a:lnTo>
                    <a:pt x="106" y="120"/>
                  </a:lnTo>
                  <a:lnTo>
                    <a:pt x="117" y="112"/>
                  </a:lnTo>
                  <a:lnTo>
                    <a:pt x="123" y="102"/>
                  </a:lnTo>
                  <a:lnTo>
                    <a:pt x="129" y="89"/>
                  </a:lnTo>
                  <a:lnTo>
                    <a:pt x="133" y="76"/>
                  </a:lnTo>
                  <a:lnTo>
                    <a:pt x="133" y="63"/>
                  </a:lnTo>
                  <a:lnTo>
                    <a:pt x="130" y="51"/>
                  </a:lnTo>
                  <a:lnTo>
                    <a:pt x="127" y="38"/>
                  </a:lnTo>
                  <a:lnTo>
                    <a:pt x="120" y="27"/>
                  </a:lnTo>
                  <a:lnTo>
                    <a:pt x="111" y="17"/>
                  </a:lnTo>
                  <a:lnTo>
                    <a:pt x="100" y="9"/>
                  </a:lnTo>
                  <a:lnTo>
                    <a:pt x="89" y="4"/>
                  </a:lnTo>
                  <a:lnTo>
                    <a:pt x="75" y="0"/>
                  </a:lnTo>
                  <a:lnTo>
                    <a:pt x="63" y="0"/>
                  </a:lnTo>
                  <a:lnTo>
                    <a:pt x="49" y="3"/>
                  </a:lnTo>
                  <a:lnTo>
                    <a:pt x="37" y="8"/>
                  </a:lnTo>
                  <a:lnTo>
                    <a:pt x="26" y="15"/>
                  </a:lnTo>
                  <a:lnTo>
                    <a:pt x="17" y="24"/>
                  </a:lnTo>
                  <a:lnTo>
                    <a:pt x="9" y="35"/>
                  </a:lnTo>
                  <a:lnTo>
                    <a:pt x="3" y="47"/>
                  </a:lnTo>
                  <a:lnTo>
                    <a:pt x="0" y="61"/>
                  </a:lnTo>
                  <a:lnTo>
                    <a:pt x="0" y="73"/>
                  </a:lnTo>
                  <a:lnTo>
                    <a:pt x="2" y="86"/>
                  </a:lnTo>
                  <a:lnTo>
                    <a:pt x="7" y="99"/>
                  </a:lnTo>
                  <a:lnTo>
                    <a:pt x="13" y="109"/>
                  </a:lnTo>
                  <a:lnTo>
                    <a:pt x="23" y="118"/>
                  </a:lnTo>
                  <a:lnTo>
                    <a:pt x="33" y="126"/>
                  </a:lnTo>
                  <a:lnTo>
                    <a:pt x="45" y="131"/>
                  </a:lnTo>
                  <a:lnTo>
                    <a:pt x="43" y="131"/>
                  </a:lnTo>
                  <a:lnTo>
                    <a:pt x="45" y="131"/>
                  </a:lnTo>
                  <a:close/>
                </a:path>
              </a:pathLst>
            </a:custGeom>
            <a:gradFill rotWithShape="0">
              <a:gsLst>
                <a:gs pos="0">
                  <a:srgbClr val="b26500"/>
                </a:gs>
                <a:gs pos="50000">
                  <a:srgbClr val="522e00"/>
                </a:gs>
                <a:gs pos="100000">
                  <a:srgbClr val="b2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00800" y="6138720"/>
              <a:ext cx="627120" cy="82800"/>
            </a:xfrm>
            <a:prstGeom prst="rect">
              <a:avLst/>
            </a:prstGeom>
            <a:gradFill rotWithShape="0">
              <a:gsLst>
                <a:gs pos="0">
                  <a:srgbClr val="0c0000"/>
                </a:gs>
                <a:gs pos="50000">
                  <a:srgbClr val="050000"/>
                </a:gs>
                <a:gs pos="100000">
                  <a:srgbClr val="0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72280" y="6199200"/>
              <a:ext cx="862200" cy="76320"/>
            </a:xfrm>
            <a:prstGeom prst="rect">
              <a:avLst/>
            </a:prstGeom>
            <a:gradFill rotWithShape="0">
              <a:gsLst>
                <a:gs pos="0">
                  <a:srgbClr val="b26500"/>
                </a:gs>
                <a:gs pos="50000">
                  <a:srgbClr val="522e00"/>
                </a:gs>
                <a:gs pos="100000">
                  <a:srgbClr val="b2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45200" y="6253200"/>
              <a:ext cx="1109880" cy="52200"/>
            </a:xfrm>
            <a:custGeom>
              <a:avLst/>
              <a:gdLst/>
              <a:ahLst/>
              <a:rect l="l" t="t" r="r" b="b"/>
              <a:pathLst>
                <a:path w="1398" h="66">
                  <a:moveTo>
                    <a:pt x="0" y="66"/>
                  </a:moveTo>
                  <a:lnTo>
                    <a:pt x="1398" y="66"/>
                  </a:lnTo>
                  <a:lnTo>
                    <a:pt x="1396" y="55"/>
                  </a:lnTo>
                  <a:lnTo>
                    <a:pt x="1391" y="43"/>
                  </a:lnTo>
                  <a:lnTo>
                    <a:pt x="1385" y="33"/>
                  </a:lnTo>
                  <a:lnTo>
                    <a:pt x="1377" y="23"/>
                  </a:lnTo>
                  <a:lnTo>
                    <a:pt x="1368" y="13"/>
                  </a:lnTo>
                  <a:lnTo>
                    <a:pt x="1358" y="7"/>
                  </a:lnTo>
                  <a:lnTo>
                    <a:pt x="1346" y="1"/>
                  </a:lnTo>
                  <a:lnTo>
                    <a:pt x="1334" y="0"/>
                  </a:lnTo>
                  <a:lnTo>
                    <a:pt x="66" y="0"/>
                  </a:lnTo>
                  <a:lnTo>
                    <a:pt x="55" y="1"/>
                  </a:lnTo>
                  <a:lnTo>
                    <a:pt x="43" y="3"/>
                  </a:lnTo>
                  <a:lnTo>
                    <a:pt x="33" y="9"/>
                  </a:lnTo>
                  <a:lnTo>
                    <a:pt x="23" y="16"/>
                  </a:lnTo>
                  <a:lnTo>
                    <a:pt x="15" y="25"/>
                  </a:lnTo>
                  <a:lnTo>
                    <a:pt x="8" y="36"/>
                  </a:lnTo>
                  <a:lnTo>
                    <a:pt x="3" y="50"/>
                  </a:lnTo>
                  <a:lnTo>
                    <a:pt x="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c0000"/>
                </a:gs>
                <a:gs pos="50000">
                  <a:srgbClr val="050000"/>
                </a:gs>
                <a:gs pos="100000">
                  <a:srgbClr val="0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dur="indefinite" fill="hold">
                      <p:stCondLst>
                        <p:cond delay="0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 MT Extra Bold"/>
              </a:rPr>
              <a:t>ETHICS</a:t>
            </a: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699160" y="5219640"/>
          <a:ext cx="275580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9160" y="5219640"/>
                    <a:ext cx="27558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PRINCIPLES OF RIGHT AND WRONG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USED BY INDIVIDUAL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S FREE MORAL AGENT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TO GUIDE BEHAVIOR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0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446640" y="2644920"/>
            <a:ext cx="2252520" cy="2252520"/>
            <a:chOff x="3446640" y="2644920"/>
            <a:chExt cx="2252520" cy="2252520"/>
          </a:xfrm>
        </p:grpSpPr>
        <p:sp>
          <p:nvSpPr>
            <p:cNvPr id="84" name=""/>
            <p:cNvSpPr/>
            <p:nvPr/>
          </p:nvSpPr>
          <p:spPr>
            <a:xfrm>
              <a:off x="4016520" y="3214800"/>
              <a:ext cx="1112760" cy="1112760"/>
            </a:xfrm>
            <a:prstGeom prst="ellipse">
              <a:avLst/>
            </a:prstGeom>
            <a:noFill/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46640" y="2644920"/>
              <a:ext cx="2252520" cy="2252520"/>
            </a:xfrm>
            <a:prstGeom prst="ellipse">
              <a:avLst/>
            </a:prstGeom>
            <a:noFill/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832120" y="2030400"/>
            <a:ext cx="3481200" cy="3479760"/>
          </a:xfrm>
          <a:prstGeom prst="ellipse">
            <a:avLst/>
          </a:prstGeom>
          <a:noFill/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841040" y="1312920"/>
            <a:ext cx="5436000" cy="4898880"/>
            <a:chOff x="1841040" y="1312920"/>
            <a:chExt cx="5436000" cy="4898880"/>
          </a:xfrm>
        </p:grpSpPr>
        <p:grpSp>
          <p:nvGrpSpPr>
            <p:cNvPr id="88" name=""/>
            <p:cNvGrpSpPr/>
            <p:nvPr/>
          </p:nvGrpSpPr>
          <p:grpSpPr>
            <a:xfrm>
              <a:off x="1841040" y="1312920"/>
              <a:ext cx="5436000" cy="4898880"/>
              <a:chOff x="1841040" y="1312920"/>
              <a:chExt cx="5436000" cy="4898880"/>
            </a:xfrm>
          </p:grpSpPr>
          <p:sp>
            <p:nvSpPr>
              <p:cNvPr id="89" name=""/>
              <p:cNvSpPr/>
              <p:nvPr/>
            </p:nvSpPr>
            <p:spPr>
              <a:xfrm>
                <a:off x="2219400" y="1417680"/>
                <a:ext cx="4707000" cy="4707000"/>
              </a:xfrm>
              <a:prstGeom prst="ellipse">
                <a:avLst/>
              </a:prstGeom>
              <a:noFill/>
              <a:ln w="2556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4572000" y="1312920"/>
                <a:ext cx="1440" cy="1946160"/>
              </a:xfrm>
              <a:prstGeom prst="line">
                <a:avLst/>
              </a:prstGeom>
              <a:ln w="2556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5111640" y="2968560"/>
                <a:ext cx="2165400" cy="641520"/>
              </a:xfrm>
              <a:prstGeom prst="line">
                <a:avLst/>
              </a:prstGeom>
              <a:ln w="2556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flipV="1">
                <a:off x="1841040" y="2879280"/>
                <a:ext cx="2219400" cy="730440"/>
              </a:xfrm>
              <a:prstGeom prst="line">
                <a:avLst/>
              </a:prstGeom>
              <a:ln w="2556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848120" y="4309920"/>
                <a:ext cx="1378080" cy="1901880"/>
              </a:xfrm>
              <a:prstGeom prst="line">
                <a:avLst/>
              </a:prstGeom>
              <a:ln w="2556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2717280" y="4221000"/>
                <a:ext cx="1519560" cy="1903680"/>
              </a:xfrm>
              <a:prstGeom prst="line">
                <a:avLst/>
              </a:prstGeom>
              <a:ln w="2556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3963960" y="4435560"/>
              <a:ext cx="1368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DIVID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78440" y="5045040"/>
              <a:ext cx="1139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OCIE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73480" y="5654520"/>
              <a:ext cx="949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O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97200" y="2835360"/>
              <a:ext cx="1901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THICAL ISS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35360" y="2225520"/>
              <a:ext cx="1825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OCIAL ISS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83080" y="1616040"/>
              <a:ext cx="2130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OLITICAL ISS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430440" y="6359400"/>
            <a:ext cx="243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QUALITY OF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4080" y="1523880"/>
            <a:ext cx="193968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NFORMATION RIGHTS &amp; OBLIGA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97600" y="1523880"/>
            <a:ext cx="190188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ROPERTY RIGHTS &amp; OBLIGA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4080" y="4602240"/>
            <a:ext cx="2511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CCOUNTABILITY   &amp; 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97600" y="4602240"/>
            <a:ext cx="2054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YSTEM 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 MT Extra Bold"/>
              </a:rPr>
              <a:t>ETHICAL, SOCIAL &amp; POLITICAL ISSUES</a:t>
            </a:r>
            <a:endParaRPr b="1" lang="en-US" sz="28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695760" y="3124080"/>
            <a:ext cx="1749240" cy="1282680"/>
            <a:chOff x="3695760" y="3124080"/>
            <a:chExt cx="1749240" cy="1282680"/>
          </a:xfrm>
        </p:grpSpPr>
        <p:sp>
          <p:nvSpPr>
            <p:cNvPr id="108" name=""/>
            <p:cNvSpPr/>
            <p:nvPr/>
          </p:nvSpPr>
          <p:spPr>
            <a:xfrm>
              <a:off x="3695760" y="3124080"/>
              <a:ext cx="1739880" cy="12826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33920" y="3384720"/>
              <a:ext cx="17110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FORMATION &amp;              TECHN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0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INFORMATION RIGHTS &amp; OBLIGATION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PROPERTY RIGHT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CCOUNTABILITY &amp; CONTRO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YSTEM QUALITY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UALITY OF LIFE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 MT Extra Bold"/>
              </a:rPr>
              <a:t>MORAL DIMENSIONS OF THE INFORMATION AGE</a:t>
            </a:r>
            <a:endParaRPr b="1" lang="en-US" sz="36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699160" y="5219640"/>
          <a:ext cx="275580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9160" y="5219640"/>
                    <a:ext cx="27558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dur="indefinite" fill="hold">
                      <p:stCondLst>
                        <p:cond delay="indefinite"/>
                      </p:stCondLst>
                      <p:childTnLst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dur="indefinite" fill="hold">
                      <p:stCondLst>
                        <p:cond delay="indefinite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 MT Extra Bold"/>
              </a:rPr>
              <a:t>TECHNOLOGY TRENDS &amp; ETHICAL ISSUES</a:t>
            </a:r>
            <a:endParaRPr b="1" lang="en-US" sz="3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MPUTING POWER DOUBLES EVERY 18 MONTH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DECLINING COSTS OF DATA STORAGE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DATA MINING ADVANCES 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NETWORKING ADVANCES &amp; INTERNET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699160" y="5219640"/>
          <a:ext cx="275580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9160" y="5219640"/>
                    <a:ext cx="27558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dur="indefinite" fill="hold">
                      <p:stCondLst>
                        <p:cond delay="indefinite"/>
                      </p:stCondLst>
                      <p:childTnLst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 MT Extra Bold"/>
              </a:rPr>
              <a:t>ETHICS IN AN INFORMATION SOCIETY</a:t>
            </a:r>
            <a:endParaRPr b="1" lang="en-US" sz="36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SPONSIBILITY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Accepting costs, duties, obligations for decision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CCOUNTABILITY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Assessing responsibilities for decisions &amp; action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IABILITY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Must pay for legal damage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UE PROCESS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Insures laws are applied properly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699160" y="5219640"/>
          <a:ext cx="275580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9160" y="5219640"/>
                    <a:ext cx="27558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dur="indefinite" fill="hold">
                      <p:stCondLst>
                        <p:cond delay="indefinite"/>
                      </p:stCondLst>
                      <p:childTnLst>
                        <p:par>
                          <p:cTn id="2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dur="indefinite" fill="hold">
                      <p:stCondLst>
                        <p:cond delay="indefinite"/>
                      </p:stCondLst>
                      <p:childTnLst>
                        <p:par>
                          <p:cTn id="2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dur="indefinite" fill="hold">
                      <p:stCondLst>
                        <p:cond delay="indefinite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9T18:47:04Z</dcterms:created>
  <dc:creator/>
  <dc:description/>
  <dc:language>en-US</dc:language>
  <cp:lastModifiedBy>Pearson Technology Centre</cp:lastModifiedBy>
  <cp:lastPrinted>2001-02-13T15:04:10Z</cp:lastPrinted>
  <dcterms:modified xsi:type="dcterms:W3CDTF">2001-05-17T21:39:48Z</dcterms:modified>
  <cp:revision>54</cp:revision>
  <dc:subject/>
  <dc:title>5. ETHICAL &amp; SOCIAL IMPACT OF IS SYSTEMS</dc:title>
</cp:coreProperties>
</file>